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104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10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637E-BAE0-4B31-B3B4-9C17D7FE20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9AB6-2C96-4A24-9E69-D81F060AC2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C1AA-C742-45B9-8805-E76F75AF0B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3D78-542D-4BE1-899E-17A0BA8BC8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99A7-5299-45B2-8787-A58F1E8293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8D32-E005-4D59-A41A-5CEA9E47E1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A210-82C8-4EE3-8513-77084856ED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8FC6-4C4A-43C8-9A76-4AD732B53E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93B2-17EE-46FF-B3CE-A70E7BB71D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03CD-008E-482B-868E-FAEFCEFE78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499B-FDA6-4450-AD4B-0F8CF4ABF1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BEB8-744C-4BEF-B6A6-813C53DDAF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1D0A-E6C2-4A64-ADE4-1562B93FE5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6CF5-8A0F-4D27-BF3F-23D6B875F7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80D2-50CD-45B7-AAAD-C492A19EC6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7D0C-D2F3-4189-ADD3-F6E3C56DFD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38CD-B50A-4B4C-B6C0-DB3683891D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6761-8EBA-4593-9207-C5BF065726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BBEE-4898-428B-AFFF-403B17F695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F050-26E1-4117-9ACA-78CE804671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3827-E183-4F2B-B575-E52C8D902E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B361-0533-4B50-9C78-BEC3B23F25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338D-7DF4-4775-82D3-72FFAC1AFD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EB09-2F39-4586-B114-8B05755F2B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4EC9-5EDC-4A36-A547-803281E419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D93F-06EE-4499-A8B1-491CF8733C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A78F-C4AE-4CE8-9BE3-4770852D72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4A32-6B27-4E83-9576-9EB60DF798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46D7-AB68-4466-94C7-B87F2D26F5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1AD9-CA29-414B-B38B-4BC419DD69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4C53-785A-44C3-BEA7-AF8CEFC510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2979-214B-4D36-B125-2B24D03D41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38DF-375C-42CC-92FA-6CB9051C63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0F45-AE3F-4E67-8056-566FC7EF80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353C-CF2B-4EE5-A897-037428E30B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C064-56A9-4B83-B029-FC6F22525C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CEB5-6471-466D-BAC5-230B927CD6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76E1-2FAE-43D0-907D-595B9B7106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76BD-530E-47A0-972B-20AB233B92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1FB1-4A8E-47EF-ADF6-04E55E404B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B7BF-9FAB-4082-9FCC-AED59E2490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31D3-8415-49A6-AB2B-9221A1028E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1C1D-6964-47D4-A066-9BCFA36842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CAA6-E4F1-46C5-BB31-F048C4D42D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FC03-1F5D-4731-9295-57EA716FED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DDCE-1B7F-4809-B4B9-0A66C5D4F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44E9-5812-4BED-83D3-3719884C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1C24-06DF-4968-9799-F5290D11A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3426-7CC2-4BE9-B868-D40B7D2AE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FE71-57A7-4F57-847E-A59D240E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A783-2850-43BE-907D-D14ED3EC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B3EE-AFB1-449B-AA03-2A1E4B4C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1697-EB22-4DC3-AB19-782C7FA4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B758-0D36-4070-8EDD-D9365DE3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9B66-B665-4049-A97A-C845B29C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ECEA-CAF1-4D4C-8E2D-9ECF8139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4ABB-4E1E-4B29-8876-3BEBCA46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1994-8155-4699-BC17-A7CF1147978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357120"/>
            <a:ext cx="864072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</a:rPr>
              <a:t>Заполнение формы отраслевого статистического наблюдения № 14дс «Сведения о деятельности дневных стационаров медицинских организаций» за 2020 год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28640"/>
          <a:ext cx="8229600" cy="5004000"/>
        </p:xfrm>
        <a:graphic>
          <a:graphicData uri="http://schemas.openxmlformats.org/drawingml/2006/table">
            <a:tbl>
              <a:tblPr/>
              <a:tblGrid>
                <a:gridCol w="1297080"/>
                <a:gridCol w="503280"/>
                <a:gridCol w="950760"/>
                <a:gridCol w="1096920"/>
                <a:gridCol w="1095480"/>
                <a:gridCol w="1095480"/>
                <a:gridCol w="1095120"/>
                <a:gridCol w="1095480"/>
              </a:tblGrid>
              <a:tr h="548280"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медицинские работни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48428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у 1000 заполняют все медицинские организации, имеющие дневные стационары, в соответствии со штатным расписанием, утвержденным руководителем медицинской организации в установленном порядк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штатных и занятых должностях показываются как целыми, так и дробными числами (0,25, 0,5 и 0,75 должности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ах 5, 8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Число физических лиц» показывают только основных работников, имеющих трудовую книжку в данной медицинской организаци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х совместителей в данные графы не включают, внутренних совместителей показывают как физические лица только один раз на основной занимаемой должност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3640" y="1599840"/>
            <a:ext cx="85690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5 (всего) должна быть равна сумме строк 1, 2, 3, 4 по графам 3, 4, 5, 6, 7, 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Содержимое 2"/>
          <p:cNvSpPr/>
          <p:nvPr/>
        </p:nvSpPr>
        <p:spPr>
          <a:xfrm>
            <a:off x="212760" y="1197000"/>
            <a:ext cx="882324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стационарных услов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3=141.1000.1.03+141.1000.2.03+141.1000.3.03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4=141.1000.1.04+141.1000.2.04+141.1000.3.04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4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5=141.1000.1.05+141.1000.2.05+141.1000.3.05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Содержимое 2"/>
          <p:cNvSpPr/>
          <p:nvPr/>
        </p:nvSpPr>
        <p:spPr>
          <a:xfrm>
            <a:off x="217440" y="1197000"/>
            <a:ext cx="87519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амбулаторных условиях, включая стационары на дом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6=141.1000.1.06 + 141.1000.2.06 +141.1000.3.06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6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7=141.1000.1.07 + 141.1000.2.07 +141.1000.3.07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7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8=141.1000.1.08 + 141.1000.2.08 +141.1000.3.08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8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взрослых 1.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1 = 30.1001.16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1.=47.0650.46.04+47.0650.51.04+47.0660.46.04+47.0660.51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детей 2.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30.1001.17.04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47.0650.46.05+47.0650.51.05 + 47.0660.46.05+47.0660.51.05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79280" y="1484280"/>
          <a:ext cx="8496360" cy="5099040"/>
        </p:xfrm>
        <a:graphic>
          <a:graphicData uri="http://schemas.openxmlformats.org/drawingml/2006/table">
            <a:tbl>
              <a:tblPr/>
              <a:tblGrid>
                <a:gridCol w="647640"/>
                <a:gridCol w="432000"/>
                <a:gridCol w="541440"/>
                <a:gridCol w="5396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642960"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н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95280" y="1628640"/>
          <a:ext cx="8497800" cy="4853160"/>
        </p:xfrm>
        <a:graphic>
          <a:graphicData uri="http://schemas.openxmlformats.org/drawingml/2006/table">
            <a:tbl>
              <a:tblPr/>
              <a:tblGrid>
                <a:gridCol w="649440"/>
                <a:gridCol w="431640"/>
                <a:gridCol w="539640"/>
                <a:gridCol w="5414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557280"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410320" cy="478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7531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Российской Федерации от 9 декабря 1999 г. № 438  «Об организации деятельности дневных стационаров в лечебно-профилактическом учреждении»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07960" y="155736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в дневном стационаре указывают в соответствии с приказом об организации данного структурного подразделения медицинской организа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на конец года заполняется без учета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заполняется с учетом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указывае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964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49 «койки скорой медицинской помощи краткосрочного пребывания»  графам с 3 по 26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 внимание, чтобы на койках для детей не указывались сведения о пациентах старше трудоспособного возраст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детей не заполняются сведения о числе коек для взрослых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238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показываются сведения о числе коек для дете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указываются данные о числе выписанных детей до 3 лет и проведенными ими пациенто-дне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3320" y="58680"/>
            <a:ext cx="8713800" cy="9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00160" y="928800"/>
          <a:ext cx="8496000" cy="5742000"/>
        </p:xfrm>
        <a:graphic>
          <a:graphicData uri="http://schemas.openxmlformats.org/drawingml/2006/table">
            <a:tbl>
              <a:tblPr/>
              <a:tblGrid>
                <a:gridCol w="1079280"/>
                <a:gridCol w="412920"/>
                <a:gridCol w="647640"/>
                <a:gridCol w="503280"/>
                <a:gridCol w="504720"/>
                <a:gridCol w="503280"/>
                <a:gridCol w="576360"/>
                <a:gridCol w="720720"/>
                <a:gridCol w="576000"/>
                <a:gridCol w="576360"/>
                <a:gridCol w="503280"/>
                <a:gridCol w="720720"/>
                <a:gridCol w="647640"/>
                <a:gridCol w="523800"/>
              </a:tblGrid>
              <a:tr h="365400">
                <a:tc rowSpan="7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-не-годо-в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-него-дов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7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атологии берем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некологи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-кие сомат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-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TextBox 5"/>
          <p:cNvSpPr/>
          <p:nvPr/>
        </p:nvSpPr>
        <p:spPr>
          <a:xfrm>
            <a:off x="2898720" y="3800520"/>
            <a:ext cx="100800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1820880" y="421956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4394160" y="421956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6858000" y="42148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6835680" y="46213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4394160" y="4695840"/>
            <a:ext cx="879480" cy="21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4500720" y="56437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2"/>
          <p:cNvSpPr/>
          <p:nvPr/>
        </p:nvSpPr>
        <p:spPr>
          <a:xfrm>
            <a:off x="6858000" y="56437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1816200" y="56293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4"/>
          <p:cNvSpPr/>
          <p:nvPr/>
        </p:nvSpPr>
        <p:spPr>
          <a:xfrm>
            <a:off x="2901960" y="62071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6"/>
          <p:cNvSpPr/>
          <p:nvPr/>
        </p:nvSpPr>
        <p:spPr>
          <a:xfrm>
            <a:off x="5643720" y="37861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8151840" y="375444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8"/>
          <p:cNvSpPr/>
          <p:nvPr/>
        </p:nvSpPr>
        <p:spPr>
          <a:xfrm>
            <a:off x="8070840" y="46465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9"/>
          <p:cNvSpPr/>
          <p:nvPr/>
        </p:nvSpPr>
        <p:spPr>
          <a:xfrm>
            <a:off x="8070840" y="6215040"/>
            <a:ext cx="836640" cy="21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0"/>
          <p:cNvSpPr/>
          <p:nvPr/>
        </p:nvSpPr>
        <p:spPr>
          <a:xfrm>
            <a:off x="5721480" y="61642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1"/>
          <p:cNvSpPr/>
          <p:nvPr/>
        </p:nvSpPr>
        <p:spPr>
          <a:xfrm>
            <a:off x="5721480" y="458136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2"/>
          <p:cNvSpPr/>
          <p:nvPr/>
        </p:nvSpPr>
        <p:spPr>
          <a:xfrm>
            <a:off x="5721480" y="510840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4"/>
          <p:cNvSpPr/>
          <p:nvPr/>
        </p:nvSpPr>
        <p:spPr>
          <a:xfrm>
            <a:off x="2832120" y="51181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5"/>
          <p:cNvSpPr/>
          <p:nvPr/>
        </p:nvSpPr>
        <p:spPr>
          <a:xfrm>
            <a:off x="8070840" y="50896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1 по графам 15-26 указываются сведения о числе коек, выписанных пациентах и проведенных ими пациенто-днях в дневных стационарах медицинских организаций, оказывающих помощь в амбулаторных условиях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я стационары на дом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ах 2 - 75 по графам 15-26 заполняются данные только о работе дневных стационаров медицинских  организаций, оказывающих помощь в амбулаторных условиях по профиля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стационаров на дом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947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каз Минэкономразвития России, Федеральный службы государственной статистики от 17 июля 2019 г. № 409 «Об утверждении методики определения возрастных групп населения»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2205000"/>
            <a:ext cx="815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2020 году к населению старше   трудоспособного возраста относя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енщины в возрасте 56 лет и старш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ужчины в возрасте 61 год и старш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1331640"/>
            <a:ext cx="822960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взрослых на конец года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3. = 47.650.46.06. + 47.650.51.06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детей на конец года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5. = 47.650.46.07. + 47.650.51.07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7. = 47.650.46.08. + 47.650.51.08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8. = 47.650.46.09. + 47.650.51.09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71080" y="1214280"/>
            <a:ext cx="86058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9. = 47.650.46.10. + 47.650.51.10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 из дневных стационаров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0. = 47.650.46.11. + 47.650.51.11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1. = 47.650.46.12. + 47.650.51.12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892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74320" y="1082520"/>
            <a:ext cx="8605800" cy="556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2. = 47.650.46.13. + 47.650.51.13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3. = 47.650.46.14. + 47.650.51.14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4. = 47.650.46.15. + 47.650.51.15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3640" y="1484280"/>
            <a:ext cx="83739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взрослых на конец года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5. = 47.660.46.06. + 47.660.51.06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детей на конец год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7. = 47.660.46.07. + 47.660.51.07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9. = 47.660.46.08. + 47.660.51.08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0. = 47.660.46.09. + 47.660.51.09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невные стациона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3640" y="1500120"/>
            <a:ext cx="83199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труктурные подразделения лечебно-профилактических учреждений, в том числе амбулаторно-поликлинических, больничных учреждений, клиник медицинских научно-исследовательских институтов и образовательных учреждений.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1196640"/>
            <a:ext cx="830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1. = 47.660.46.10. + 47.660.51.10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2. = 47.660.46.11. + 47.660.51.11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3. = 47.660.46.12. + 47.660.51.12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64600" y="1315800"/>
            <a:ext cx="83012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4. = 47.660.46.13. + 47.660.51.13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5. = 47.660.46.14. + 47.660.51.14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6. = 47.660.46.15. + 47.660.51.15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ло в дневном стационаре при подразделениях медицинских организаций, оказывающих медицинскую помощ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2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, включая стационары на дому 3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4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293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000" y="1268280"/>
            <a:ext cx="85359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стационарных услов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1.=141.3000.1.06.+141.3500.1.0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стационарных услов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2.=141.3500.1.06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400" y="1285560"/>
            <a:ext cx="853596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амбулаторных условиях, включая стационары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3.=141.3000.1.09.+141.3500.1.0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амбулаторных условиях, включая стационары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4.=141.3500.1.0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сельских жителей из дневных стационаров медицинских организаций, оказывающих медицинскую помощь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, включая стационары на дому 2 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50004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пациентов в дневных стационарах, сроки и исходы ле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. Дневные стационары для взросл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28760" y="765000"/>
          <a:ext cx="8286480" cy="5961240"/>
        </p:xfrm>
        <a:graphic>
          <a:graphicData uri="http://schemas.openxmlformats.org/drawingml/2006/table">
            <a:tbl>
              <a:tblPr/>
              <a:tblGrid>
                <a:gridCol w="2666880"/>
                <a:gridCol w="276120"/>
                <a:gridCol w="552600"/>
                <a:gridCol w="722160"/>
                <a:gridCol w="814320"/>
                <a:gridCol w="695520"/>
                <a:gridCol w="931680"/>
                <a:gridCol w="812880"/>
                <a:gridCol w="814320"/>
              </a:tblGrid>
              <a:tr h="14616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28760" y="135684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19 по графам с 4 по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21 «Коды для особых целей» указываются сведения о пациентах с коронавирусной инфекцией (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)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1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идентифицирован)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не идентифицирован)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. Дневные стационары для дете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14440" y="765000"/>
          <a:ext cx="8001000" cy="5793120"/>
        </p:xfrm>
        <a:graphic>
          <a:graphicData uri="http://schemas.openxmlformats.org/drawingml/2006/table">
            <a:tbl>
              <a:tblPr/>
              <a:tblGrid>
                <a:gridCol w="2544840"/>
                <a:gridCol w="288720"/>
                <a:gridCol w="590760"/>
                <a:gridCol w="718920"/>
                <a:gridCol w="865080"/>
                <a:gridCol w="648000"/>
                <a:gridCol w="693720"/>
                <a:gridCol w="825480"/>
                <a:gridCol w="825480"/>
              </a:tblGrid>
              <a:tr h="30492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организации дневных стационар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71320" y="18572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проведение профилактических, диагностических, лечебных и реабилитационных мероприятий пациентам, не требующим круглосуточного медицинского наблюдения, с применением современных технологий в соответствии со стандартами и протоколами ведения пациентов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8400" y="1356840"/>
            <a:ext cx="839124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20 по графам с 4 по 9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22 «Коды для особых целей» указываются сведения о пациентах с коронавирусной инфекцией (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)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1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идентифицирован)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не идентифицирован)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143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836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4. + 141.3000.20.04.+141.3000.21.04. = 141.2000.1.07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4. + 141.3500.21.04.+141.3500.22.04. = 141.2000.1.09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 условиях, включая стационары на дому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13372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, включая стационары на до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7. + 141.3000.20.07.+141.3000.21.07. = 141.2000.1.1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, включая стационары на до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7. + 141.3500.21.07.+141.3500.22.07. = 141.2000.1.2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бщего числа выписанных (гр. 4 и 7 таблиц 3000 и 3500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ы райвоенкоматом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госпитализированные для обследования и оказавшиеся здоровым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2 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3 ______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4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60248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от 30 декабря 2002 г. № 413 «Об утверждении учетной и отчетной медицинской документации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30 декабря 2002 г. № 41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341000"/>
            <a:ext cx="843588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/у-02 «Листок ежедневного учета движения больных и коечного фонда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16/у-02 «Сводная ведомость движения больных и коечного фонда по стационару, отделению или профилю коек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дс/у-02 «Листок ежедневного учета движения больных и коечного фонда дневного стационара при амбулаторно-поликлиническом учреждении, стационара на дому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30 декабря 2002 г. № 413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3640" y="1600200"/>
            <a:ext cx="85690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Учетная форма № 066/у-02 «Статистическая карта выбывшего из стационара круглосуточного пребывания, дневного стационара при больничном учреждении, дневного стационара при амбулаторно-поликлиническом учреждении, стационара на дому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тчетная форма № 14дс «Сведения о деятельности дневных стационаров лечебно-профилактического учреждения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8535960" cy="55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Форма отраслевого статистического наблюдения № 14дс 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«Сведения о деятельности дневных стационаров медицинских организаций» 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утверждена приказом Министерства здравоохранения Российской Федерации от 30.12.2002 г. № 413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99680" y="1142640"/>
            <a:ext cx="810108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от 13 ноября 2003 г. № 548  «Об утверждении инструкции по заполнению отчетной формы по дневным стационарам»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9:51:31Z</dcterms:created>
  <dc:creator>Vaio</dc:creator>
  <dc:description/>
  <dc:language>en-US</dc:language>
  <cp:lastModifiedBy>Елена Александровна Бронникова</cp:lastModifiedBy>
  <cp:lastPrinted>2020-12-02T13:53:05Z</cp:lastPrinted>
  <dcterms:modified xsi:type="dcterms:W3CDTF">2020-12-09T01:39:18Z</dcterms:modified>
  <cp:revision>379</cp:revision>
  <dc:subject/>
  <dc:title>Форма отраслевого статистического наблюдения  № 14 дс «Сведения о деятельности дневных стационаров медицинских организаций»</dc:title>
</cp:coreProperties>
</file>