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BB79-B9A6-4FB3-BF82-0149591887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3A00-4AA0-4620-92B5-BC6E274101D0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F608-B309-4441-B9F4-8335959E71C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85C9-054D-4995-922D-F18289A015F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CD6-2812-4556-AD21-539706E6194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2110-036E-4C3C-9BF5-DB4D40720AD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5F45-5642-43A9-BC69-0232A9DA60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5E1-7671-40C2-A39B-4765B494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129-6124-40FD-A507-5036604C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F2D-D332-4102-9273-0075F5D3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227-DE34-492A-BD87-381FBB57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0CC-2B15-4E83-BDB4-E086F9AF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DE3-35AE-4364-BD65-F21E7654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4A6-AC2F-4FEA-AEC0-B5D75475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4B4-E952-4A91-952A-244E0967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013-1067-4586-8092-EE45F554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DAE-4E27-491B-82BC-DD44E2D5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289-2AE7-46AC-870B-DA80AFE3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F79-E0E5-4EDD-B306-5F3F7173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AF92-747F-4283-A253-F7075E981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94040"/>
            <a:ext cx="8480520" cy="366840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2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Елена Александровна Бронникова</cp:lastModifiedBy>
  <cp:lastPrinted>2018-12-10T14:36:03Z</cp:lastPrinted>
  <dcterms:modified xsi:type="dcterms:W3CDTF">2020-12-09T01:47:18Z</dcterms:modified>
  <cp:revision>126</cp:revision>
  <dc:subject/>
  <dc:title>Презентация PowerPoint</dc:title>
</cp:coreProperties>
</file>