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104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10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21AF-01AD-470E-A487-0B0969C451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5961-8F14-41C5-8965-4890B807AF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5626080" y="6419880"/>
            <a:ext cx="43005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9B3442D-6067-41EB-893D-693C50743F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57640" y="530280"/>
            <a:ext cx="3422520" cy="25668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325520" y="3247920"/>
            <a:ext cx="7275600" cy="30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8050-FDB0-4ECA-B2BF-B1CC25BD1F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DFEB-6927-4D41-BE77-15292496B0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6AA5-2A64-4B82-B7F8-F969521EFE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AF1E-D005-485C-8876-65EE716778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5A71-AC7E-4356-81F7-446C0E0ABD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8492-E53F-4DE0-AE75-30A1B8283B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79E9-A7AB-4911-A101-197650D18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B135-B821-4DAD-B47F-47B31CCD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6B39-B122-4563-9884-7844240ED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B7E2-6794-4BB8-8022-95DF2105D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3318-C8C7-47EA-A093-03E8B8A1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638D-8778-4BBC-A0E4-F72D98CD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0539-D46F-46F9-B37F-D1BC4257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7B1C-75E1-4454-841F-29879D22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55F6-61DA-42F3-AFA6-FCA6F1B5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B7A5-98C8-4208-8D74-11ADDEF6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B391-3F94-4F78-A2AA-F754F079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83F4-3000-4536-8456-B6ED056B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A40F-27F2-4DF2-9C9D-C10809D75F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500040"/>
            <a:ext cx="830412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данных о работе скорой медицинской помощи в форме федерального статистического наблюдения № 30 «Сведения о медицинской организации» за 2020 год.</a:t>
            </a:r>
            <a:br>
              <a:rPr sz="3500"/>
            </a:b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28640"/>
          <a:ext cx="8462880" cy="4451400"/>
        </p:xfrm>
        <a:graphic>
          <a:graphicData uri="http://schemas.openxmlformats.org/drawingml/2006/table">
            <a:tbl>
              <a:tblPr/>
              <a:tblGrid>
                <a:gridCol w="2016000"/>
                <a:gridCol w="1008360"/>
                <a:gridCol w="1223640"/>
                <a:gridCol w="1295640"/>
                <a:gridCol w="1224000"/>
                <a:gridCol w="1695240"/>
              </a:tblGrid>
              <a:tr h="31608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16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56760" y="1214280"/>
            <a:ext cx="85359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ют сведения о штатных, занятых должностях, физических лицах всего персонала станции (отделения) скорой медицинской помощи, из них врачей, среднего медицинского персонала, младшего медицинского персонала, прочего персонал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й персонал станции (отделения) скорой медицинской помощи – это водители и прочий персонал. В прочий персонал (графа 16) включают специалистов с немедицинским образование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изоры указываются в графе 4 «Врачи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вты – в графе 10 «Средний медицинский персонал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13 указываются сведения о медицинских сестрах, которые не включают данные о медицинских сестрах анестезиста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14 заполняются сведения о медицинских сестрах анестезиста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штатных и занятых должностях персонала станции (отделения) скорой медицинской помощи показываются как дробными числами (0,25, 0,5 и 0,75 должности), так и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2854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. = 30.1105.1.04. + 30.1105.1.10 + 30.1105.1.15 + 30.1105.1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. = 30.1105.2.04. + 30.1105.2.10 + 30.1105.2.15 + 30.1105.2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 основных работников на занятых должностях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. = 30.1105.3.04. + 30.1105.3.10 + 30.1105.3.15 + 30.1105.3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8920" y="2854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2876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рачей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4.  ≥ 30.1105.1.05. + 30.1105.1.06 + 30.1105.1.07 + 30.1105.1.08  + 30.1105.1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рач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4. ≥ 30.1105.2.05. + 30.1105.2.06 + 30.1105.2.07 + 30.1105.2.08  + 30.1105.2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основных работников на занятых должностях врач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4. ≥ 30.1105.3.05. + 30.1105.3.06 + 30.1105.3.07 + 30.1105.3.08  + 30.1105.3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560" y="1425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93200" y="1123560"/>
            <a:ext cx="847116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среднего медицинского персонала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10. ≥ 30.1105.1.11. + 30.1105.1.12 + 30.1105.1.13 + 30.1105.1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среднего медицинского персонал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10. ≥ 30.1105.2.11. + 30.1105.2.12 + 30.1105.2.13 + 30.1105.2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основных работников на занятых должностях среднего медицинского персонал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10. ≥ 30.1105.3.11. + 30.1105.3.12 + 30.1105.3.13 + 30.1105.3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3640" y="1483920"/>
            <a:ext cx="83293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79280" y="1413000"/>
          <a:ext cx="8856720" cy="5163840"/>
        </p:xfrm>
        <a:graphic>
          <a:graphicData uri="http://schemas.openxmlformats.org/drawingml/2006/table">
            <a:tbl>
              <a:tblPr/>
              <a:tblGrid>
                <a:gridCol w="2214720"/>
                <a:gridCol w="519120"/>
                <a:gridCol w="619200"/>
                <a:gridCol w="874440"/>
                <a:gridCol w="839880"/>
                <a:gridCol w="728640"/>
                <a:gridCol w="509760"/>
                <a:gridCol w="728640"/>
                <a:gridCol w="885600"/>
                <a:gridCol w="936720"/>
              </a:tblGrid>
              <a:tr h="152640"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 доставленных в медицински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скорой медицинской помощи по поводу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эваку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вл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запных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остоя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ов и патологии беремен-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боль-нич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ых, рожениц и родильн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вызовов скорой медицинской помощ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детям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при выполнении вызов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ельских населенных  пунктах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умерших в автомобиле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3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щин старше трудоспособного возраст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чин старше трудоспособного возрас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 Министерства здравоохранения Российской Федерации от 20 июня 2013 г. № 388н  (приложение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50920" y="1601280"/>
            <a:ext cx="850104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выездными бригадами скорой медицинской помощ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осуществляться с места происшествия или места нахождения пациента (вне медицинской организации), а также из медицинской организации, в которой отсутствует возможность оказания необходимой медицинской помощи при угрожающих жизни состояниях, женщин в период беременности, родов, послеродовой период и новорожденных, лиц, пострадавших в результате чрезвычайных ситуаций и стихийных бедстви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55640" y="765000"/>
            <a:ext cx="77868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ции от 20 июня 2013  г. № 388н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порядка оказания скорой, в том числе скорой специализированной, медицинской помощи»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акции от 21 февраля 2020 г.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3739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3640" y="2492280"/>
            <a:ext cx="85359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с 5 по 9 графы 1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7, 8, 9 графы 6 и 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выполненных вызовов бригадами скорой медицинской помощи (стр. 1 гр. 3) не включаются безрезультатные вызов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50920" y="2205000"/>
            <a:ext cx="8407440" cy="40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детям (форма 30 табл. 2120 стр. 2 гр. 3) не должно быть больше числа детей, которым оказана скорая медицинская помощь при вызовах (форма 30 табл. 2121 стр. 1 гр. 3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2.03 ≤ 30.2121.1.03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8360" y="213336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лицам, доставленных в медицинские организации (форма 30 табл. 2120 стр. 1 гр. 10) не должно быть больше числа лиц, доставленных в медицинские организации (форма 30 табл. 2120 стр. 3 гр. 10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1.10 ≤ 30.2120.3.10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40564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57120" y="1143000"/>
            <a:ext cx="8607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 «Число лиц, которым оказана скорая медицинская помощь при выполнении вызовов» по возраст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, всего  1 ____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сельских жителей  2 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(из стр. 1)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 (0-17 лет) 3 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(18 лет и старше) 4 __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 (из стр. 4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старше трудоспособного возраста 5 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старше трудоспособного возраста 6 _____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42960" y="1341360"/>
            <a:ext cx="81770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 всего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2121.1.03 + 30.2121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 2120.3.03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947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экономразвития России, Федеральный службы государственной статистики от 17 июля 2019 г. № 409 «Об утверждении методики определения возрастных групп населения»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9640" y="2205000"/>
            <a:ext cx="815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0 году к населению старше   трудоспособного возраста относя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в возрасте 56 лет и старш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в возрасте 61 год и старш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57120" y="1341000"/>
            <a:ext cx="83296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79280" y="1268280"/>
          <a:ext cx="8785440" cy="5489640"/>
        </p:xfrm>
        <a:graphic>
          <a:graphicData uri="http://schemas.openxmlformats.org/drawingml/2006/table">
            <a:tbl>
              <a:tblPr/>
              <a:tblGrid>
                <a:gridCol w="4176720"/>
                <a:gridCol w="503280"/>
                <a:gridCol w="836640"/>
                <a:gridCol w="1036800"/>
                <a:gridCol w="1141200"/>
                <a:gridCol w="1090800"/>
              </a:tblGrid>
              <a:tr h="14626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и профиль брига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мен)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осуточ-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 выездны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медицинский эвакуаций, выполненных выездными бригадами (лиц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профи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врачеб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53640" rIns="5364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для оказания медицинск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и детскому насел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 пед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35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экстренные консультативные бригады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кардиолог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медицин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1996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2 декабря 2009 г. № 942 «Об утверждении статистического инструментария станции (отделения), больницы скорой медицинской помощи»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5280" y="2356920"/>
            <a:ext cx="8353440" cy="37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а скорой медицинской помощ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труктурно-функциональная единица станции (подстанции, отделения) скорой медицинской помощи, организованная в соответствии со штатными нормативами для обеспечения работы в одну смену (6 часов) (1 круглосуточная бригада = 4 бригады (смены)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 (графа 3) заполняется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4 «из них число выездных круглосуточных бригад скорой медицинской помощи» заполняются данные только о бригадах скорой медицинской помощи, работающих 24 часа в сутки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842976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, в том числе скорая специализированная, медицинская помощ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2960" y="1557360"/>
            <a:ext cx="7889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ется при заболеваниях, несчастных случаях, травмах, отравлениях и других состояниях, требующих срочного медицинского вмешательства вне медицинской организации, в амбулаторных и стационарных условиях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 медицинская помощь осуществляется на основе стандартов медицинской помощи и с учетом клинических рекомендаций (протоколов лечения)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85840" y="2357280"/>
            <a:ext cx="8229600" cy="41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филю подразделяются 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      № 388н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00040" y="19285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 скорой медицинской помощи подразделяются на бригады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стезиологии-реанимации, в том числе 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енные консультатив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854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78920" y="1500120"/>
            <a:ext cx="847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врачебная выездная бригада скорой медицинской помощ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 скорой медицинской помощи, фельдшера скорой медицинской помощи и водителя, либо врача скорой медицинской помощи, медицинскую сестру (медицинского брата) и водителя, либо врача скорой медицинской помощи, фельдшера скорой медицинской помощи, фельдшера скорой медицинской помощи или медицинскую сестру (медицинского брата) и водителя. Для организации деятельности общепрофильной врачебной выездной бригады скорой медицинской помощи используется автомобиль скорой медицинской помощи класса «B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148428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фельдшерская выездная бригада скорой медицинской помощи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двух фельдшеров скорой медицинской помощи и водителя, либо фельдшера скорой медицинской помощи, медицинскую сестру (медицинского брата) и водителя. Для организации деятельности общепрофильной фельдшерской выездной бригады скорой медицинской помощи используется автомобиль скорой медицинской помощи класса «A» или «B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8000" y="1628640"/>
            <a:ext cx="87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выездная бригада скорой медицинской помощи анестезиологии-реанимации, в том числе педиатрическ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ючает врача-анестезиолога-реаниматолога и двух медицинских сестер-анестезистов и водителя. Для организации деятельности специализированной выездной бригады скорой медицинской помощи анестезиологии-реанимации, в том числе педиатрической, используется автомобиль скорой медицинской помощи класса «C» соответствующего оснащ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3640" y="2854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1571400"/>
            <a:ext cx="88200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едиатрическая выездная бригада скорой медицинской помощи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-педиатра, фельдшера скорой медицинской помощи и водителя, либо врача-педиатра, медицинскую сестру (медицинского брата) и водителя. Для организации деятельности специализированной педиатрической выездной бригады скорой медицинской помощи используется автомобиль скорой медицинской помощи класса «B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28548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3640" y="1642680"/>
            <a:ext cx="85690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сихиатрическая выездная бригада скорой медицинской помощ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ключает врача-психиатра, фельдшера скорой медицинской помощи, санитара и водителя, либо врача-психиатра, медицинскую сестру (медицинского брата), санитара и водителя. Для организации деятельности специализированной психиатрической выездной бригады скорой медицинской помощи используется автомобиль скорой медицинской помощи класса «B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7120" y="1642680"/>
            <a:ext cx="8391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ая экстренная консультативная бригада скорой медицинской помощ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рача-специалиста отделения экстренной консультативной скорой медицинской помощи медицинской организации, фельдшера скорой медицинской помощи или медицинскую сестру (медицинского брата) и водителя. Для организации деятельности выездной экстренной консультативной бригады скорой медицинской помощи используется автомобиль скорой медицинской помощи класса «C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8400" y="1714680"/>
            <a:ext cx="8351640" cy="46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ая выездная бригада скорой медицинской помощ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не менее одного врача скорой медицинской помощи или врача анестезиолога-реаниматолога, фельдшера скорой медицинской помощи и (или) медицинскую сестру-анестезиста. Для обеспечения оказания медицинской помощи пациенту во время медицинской эвакуации при необходимости в состав авиамедицинской бригады могут включаться иные врачи-специалис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28400" y="1714680"/>
            <a:ext cx="8351640" cy="46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6 «Число медицинских эвакуаций, выполненных выездными бригадами (лиц)» указываются сведения о числе лиц, которым была оказана скорая медицинская помощь при медицинской эвакуации (из графы 5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6  =  30.2120.3.0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 в форме федерального статистического наблюдения № 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1280" y="17730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 заполняется станциями скорой медицинской помощи и медицинскими организациями, имеющими в своем составе отделения скорой медицинской помощ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357120"/>
            <a:ext cx="835164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выездными бригада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 + 30.2200.2.05 + 30.2200.3.05 =  30.2120.3.03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53680" y="233280"/>
            <a:ext cx="8280360" cy="13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1680" y="1484280"/>
            <a:ext cx="8640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выездных бригад скорой медицинской помощ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3=30.2200.1.03+30.2200.2.03+30.2200.3.0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4=30.2200.1.04+30.2200.2.04+30.2200.3.0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5=30.2200.1.05+30.2200.2.05+30.2200.3.0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6=30.2200.1.06+30.2200.2.06+30.2200.3.0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356760"/>
            <a:ext cx="828036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8000" y="1412640"/>
            <a:ext cx="885672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 выездные бригады скорой медицинской помощ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3. = 30.2200.11.03. + 30.2200.12.03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4. = 30.2200.11.04. + 30.2200.12.04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. = 30.2200.11.05. + 30.2200.12.05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6=30.2200.11.06+30.2200.12.06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1640" y="188640"/>
            <a:ext cx="8280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42920" y="1076040"/>
            <a:ext cx="885816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скорой медицинской помощ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3  ≥  30.2200.21.03 +30.2200.22.03+30.2200.23.03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3+30.2200.25.03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4 ≥ 30.2200.21.04+30.2200.22.04+30.2200.23.04+ 30.2200.24.04+30.2200.25.04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5  ≥  30.2200.21.05+30.2200.22.05+30.2200.23.05 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5 +30.2200.25.05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6 ≥ 30.2200.21.06+30.2200.22.06+30.2200.23.06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6+30.2200.25.06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прочих специализированных бригад скорой медицинской помощи следует предоставить пояснение по их работе (число выездных бригад (смен), из них круглосуточных, число лиц, которым оказана скорая медицинская помощь, в том числе при медицинской эвакуации)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57120" y="1143000"/>
            <a:ext cx="83296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1 «Из числа лиц, которым оказана скорая медицинская помощь общепрофильными фельдшерскими выездными бригадами – медицинская эвакуация 1 ______, из них сельских жителей 2_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 «Число лиц, которым оказана скорая медицинская помощь в амбулаторных условиях 1 _, из них сельских жителей 2 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ых строках 2201 и 2202 необходимо сравнить с данными предыдущего отчетного г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тся сведения о числе лиц, которым оказана скорая медицинская помощь в амбулаторных условиях при непосредственном их обращении на станцию (отделение) скорой медицинской помощи. Сведения заполняются на основании данных, содержащихся в Журнале регистрации амбулаторных пациентов (учетная форма № 074/у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исло лиц, эвакуированных с использованием санитарной авиации за счет средств регионального бюджета (из табл. 2200, стр. 3, гр.6) 1 __________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госпитализированных в первые сутки 2 ________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57120" y="1484280"/>
            <a:ext cx="83296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скорой медицинской помощи и времени, затраченному на выполнение одного вызова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71680" y="1714680"/>
          <a:ext cx="8143560" cy="4789440"/>
        </p:xfrm>
        <a:graphic>
          <a:graphicData uri="http://schemas.openxmlformats.org/drawingml/2006/table">
            <a:tbl>
              <a:tblPr/>
              <a:tblGrid>
                <a:gridCol w="1761840"/>
                <a:gridCol w="757440"/>
                <a:gridCol w="1266840"/>
                <a:gridCol w="1546200"/>
                <a:gridCol w="1260360"/>
                <a:gridCol w="1550880"/>
              </a:tblGrid>
              <a:tr h="55872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времен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езда до места вызова скорой медицинской помощо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ченному на выполнение одного выз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ме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5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 2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21 до 4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41 до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олее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563400" y="1415880"/>
          <a:ext cx="8112240" cy="5266080"/>
        </p:xfrm>
        <a:graphic>
          <a:graphicData uri="http://schemas.openxmlformats.org/drawingml/2006/table">
            <a:tbl>
              <a:tblPr/>
              <a:tblGrid>
                <a:gridCol w="4154760"/>
                <a:gridCol w="788760"/>
                <a:gridCol w="1584360"/>
                <a:gridCol w="1584360"/>
              </a:tblGrid>
              <a:tr h="157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скорой медицинской помощи (да-1, нет-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 скорой медицинской помощи (да-1, нет – 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полненных вызовов скорой медицинской помощи в год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00 тысяч (внекатегорийна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75 до 100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0 до 75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5 до 50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0 до 25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тысяч 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5 тысяч 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Заголовок 1"/>
          <p:cNvSpPr/>
          <p:nvPr/>
        </p:nvSpPr>
        <p:spPr>
          <a:xfrm>
            <a:off x="826920" y="404640"/>
            <a:ext cx="7993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35344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2 декабря 2009 г. № 942 «Об утверждении статистического инструментария станции (отделения), больницы скорой медицинской помощи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3640" y="2349360"/>
            <a:ext cx="83516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доезда до места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это время от момента поступления вызова на станцию (отделение) скорой медицинской помощи до момента прибытия бригады скорой медицинской помощи к месту вызо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, затраченное на выполнение одного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время от момента поступления вызова на станцию (отделение) скорой медицинской помощи до момента окончания выполнения вызова бригадой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95280" y="1773360"/>
            <a:ext cx="8407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1+2+3+4 гр. 3) = число вызовов скорой медицинской помощи, затраченному на выполнение одного вызова, всего (табл. 2300 стр. 1+2+3+4 гр. 5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 1+2+3+4 гр. 3) = число выполненных вызовов, всего (табл.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, всего (табл. 2300 стр. 1+2+3+4 гр. 5) = число выполненных вызовов, всего (табл. 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50920" y="155736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7480" indent="-177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, затраченному на выполнение одного вызова на дорожно-транспортное происшествие (табл. 2300 стр. 1+2+3+4 гр. 6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 к пациентам, пострадавшим при дорожно-транспортных происшествиях (табл. 2350 стр. 5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 на место дорожно-транспортного происшествия (табл. 2300 стр. 1+2+3+4 гр. 6) = число вызовов скорой медицинской помощи к пациентам, пострадавшим при дорожно-транспортных происшествиях (табл.2350 стр. 5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95280" y="1484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79280" y="649440"/>
          <a:ext cx="8643960" cy="6176880"/>
        </p:xfrm>
        <a:graphic>
          <a:graphicData uri="http://schemas.openxmlformats.org/drawingml/2006/table">
            <a:tbl>
              <a:tblPr/>
              <a:tblGrid>
                <a:gridCol w="6000840"/>
                <a:gridCol w="785880"/>
                <a:gridCol w="811080"/>
                <a:gridCol w="1046160"/>
              </a:tblGrid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 и повторным инфарктом миокард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21-I22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): пациентов, нуждавшихся в проведении 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оказании скорой медицинской помощи в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ой организации при отсутств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противопоказаний к провед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роведено тромболизи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и цереброваскулярными болезнями 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0-I6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:  пациентов, у которых смерть наступила в 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езрезультатных вызовов скорой медицинской помощи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азано в оказании скорой медицинской помощи по причине необоснованности в связи с отсутствием повода для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должение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50920" y="765000"/>
          <a:ext cx="8643960" cy="5924880"/>
        </p:xfrm>
        <a:graphic>
          <a:graphicData uri="http://schemas.openxmlformats.org/drawingml/2006/table">
            <a:tbl>
              <a:tblPr/>
              <a:tblGrid>
                <a:gridCol w="6000480"/>
                <a:gridCol w="785880"/>
                <a:gridCol w="785880"/>
                <a:gridCol w="1071720"/>
              </a:tblGrid>
              <a:tr h="7192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к пациентам, пострадавшим при дорожно-транспортных происшест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пострадавших при дорожно-транспортных происшествиях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6):  со смертельным исходом до прибытия выездной бригад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на место дорожн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 происше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 транспортн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дорожно-транспортного 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ных в стационары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дорожно-транспортного 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ациентов, доставленных в травмоцен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 уровня с места дорожно-транспорт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медицинскому обеспечению спортивных и других массовых меропри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эвакуированных по экстренным медицинским показаниям в первые 24 часа в медицинские организации 2-го и 3-го уровней в рамках трехуровневой системы оказания медицинской помощи субъекта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7120" y="1500120"/>
            <a:ext cx="8501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к пациентам, пострадавшим при дорожно-транспортных происшествиях (строка 5 графа 3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5.03. = 30.2300.1.04. + 30.2300.2.04. + 30.2300.3.04. + 30.2300.4.04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5.03. = 30.2300.1.06. + 30.2300.2.06. + 30.2300.3.06. + 30.2300.4.06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23640" y="1484280"/>
            <a:ext cx="8329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28760" y="1552680"/>
          <a:ext cx="7858080" cy="4540320"/>
        </p:xfrm>
        <a:graphic>
          <a:graphicData uri="http://schemas.openxmlformats.org/drawingml/2006/table">
            <a:tbl>
              <a:tblPr/>
              <a:tblGrid>
                <a:gridCol w="2857320"/>
                <a:gridCol w="785880"/>
                <a:gridCol w="1020600"/>
                <a:gridCol w="1065240"/>
                <a:gridCol w="1065240"/>
                <a:gridCol w="1063800"/>
              </a:tblGrid>
              <a:tr h="5302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о сроком эксплуатаци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3 до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втомобилей скорой медицинской помощи –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marL="187200" indent="809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С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68760" rIns="68760" tIns="0" bIns="0" anchor="t">
                      <a:noAutofit/>
                    </a:bodyPr>
                    <a:p>
                      <a:pPr marL="893880" indent="-62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ля новорожденных    и детей раннего возрас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68760" rIns="68760" tIns="0" bIns="0" anchor="t">
                      <a:noAutofit/>
                    </a:bodyPr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повышенн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дим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85880" y="260280"/>
            <a:ext cx="79437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95280" y="1413000"/>
            <a:ext cx="83008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классам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.04. + 30.5450.1.05. + 30.5450.1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А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1.03. = 30.5450.11.04. + 30.5450.11.05. + 30.5450.1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В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2.03. = 30.5450.12.04. + 30.5450.12.05. + 30.5450.12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.03. = 30.5450.13.04. + 30.5450.13.05. + 30.5450.13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 для новорожденных и детей раннего возраста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1.03. = 30.5450.131.04.+30.5450.131.05.+ 30.5450.13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повышенной проходимост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4.03. = 30.5450.14.04. + 30.5450.14.05. + 30.5450.14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88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11200" y="13791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скорой медицинской помощи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060.1.03 + 30.1060.2.03 + 30.1060.3.03 + 30.1060.4.03 + 30.1060.5.03 + 30.1060.6.03 + 30.1060.7.03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7.0400.1.03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отделений скорой медицинской помощ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060.1.04 + 30.1060.2.04 + 30.1060.3.04 + 30.1060.4.04 + 30.1060.5.04 + 30.1060.6.04 + 30.1060.7.04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7.0400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1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50560" y="1413000"/>
            <a:ext cx="8623080" cy="53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срокам эксплуатаци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1.03. + 30.5450.12.03. + 30.5450.13.03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до 3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4. = 30.5450.11.04. + 30.5450.12.04. + 30.5450.13.04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от 3 до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5. = 30.5450.11.05. + 30.5450.12.05. + 30.5450.13.05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свыше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6. = 30.5450.11.06. + 30.5450.12.06. + 30.5450.13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24000" y="549000"/>
            <a:ext cx="8372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начительном изменении в числе автомобилей скорой медицинской помощи в 2020 г. по сравнению с 2019 г. следует предоставить поясн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неклассифицированных автомобилей скорой медицинской помощи следует предоставить пояснение по их распределению по сроку эксплуат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            от 1 декабря 2005 г. № 752    «Об оснащении санитарного автотранспорта» регламентировал разделение автомобилей скорой медицинской помощи по классам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А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автомобили скорой медицинской помощи, предназначенные для транспортировки пациентов, не являющихся экстренными пациентами, в сопровождении медицинского персонала общепрофильной фельдшерской выездной бригады скорой медицинской помощ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28400" y="1857240"/>
            <a:ext cx="83199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В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врачебной (фельдшерской) общепрофильной выездной бригады скорой медицинской помощи, транспортировки и мониторинга состояния пациентов на догоспитальном эта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С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специализированной выездной бригады скорой медицинской помощи анестезиологии-реанимации, в том числе педиатрической, транспортировки и мониторинга состояния пациентов на догоспитальном этап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28760" y="57132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. Оснащение станции (отделения) скорой медицинской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 повышенной проходимост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ездеходы, санитарные автомобили на базе «КАМАЗа» и другие» (из строки 1) - транспортное средство на базе дорожного автомобиля, повышение проходимости которого обеспечено: приводом  на все колеса, постановкой дополнительной раздаточной коробки, использованием шин с регулируемым давлением воздуха,  установкой блокируемых дифференциалов или дифференциалов  повышенного трения, лебедки и других приспособлений для преодоления препятствий или на базе транспортного средства специального назначения на гусеницах, шнеках, колесах низкого давл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автомобилей скорой медицинской помощи, находящихся на аутсорсинге, следует предоставить пояснение по их числ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5280" y="1268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(отделений) скорой медицинской помощи, оснащенных медицинской информационной системой для автоматизации работы станции (отделения) скорой медицинской помощи, обеспечивающей автоматизацию системы управления приемом, обработкой и передачей поступающих вызовов (обращений), автоматизацию системы диспетчеризации автомобилей скорой медицинской помощи 1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9528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3.1.01 ≤ 30.1060.1.03+1.04 + 30.1060.2.03+2.04 +30.1060.3.03+3.04 + 30.1060.4.03+4.04 + 30.1060.5.03+5.04 + 30.1060.6.03+6.04 + 30.1060.7.03+7.0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даче отчетов следует указать название программы автоматизированной системы управления приема и обработки вызовов скорой медицинской помощи, установленной на станциях (отделениях)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ой строке 5453 необходимо сравнить с данными предыдущего отчетного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Штаты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Персонал станций (отделений) скорой медицинской помощ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68360" y="1500120"/>
          <a:ext cx="8462880" cy="4908600"/>
        </p:xfrm>
        <a:graphic>
          <a:graphicData uri="http://schemas.openxmlformats.org/drawingml/2006/table">
            <a:tbl>
              <a:tblPr/>
              <a:tblGrid>
                <a:gridCol w="1655640"/>
                <a:gridCol w="863640"/>
                <a:gridCol w="720720"/>
                <a:gridCol w="863640"/>
                <a:gridCol w="1008000"/>
                <a:gridCol w="936720"/>
                <a:gridCol w="1008000"/>
                <a:gridCol w="719280"/>
                <a:gridCol w="687240"/>
              </a:tblGrid>
              <a:tr h="35424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ие врач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скорой мед. помощ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-зиологи-реанима-толог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95200" y="1628640"/>
          <a:ext cx="8553600" cy="4981680"/>
        </p:xfrm>
        <a:graphic>
          <a:graphicData uri="http://schemas.openxmlformats.org/drawingml/2006/table">
            <a:tbl>
              <a:tblPr/>
              <a:tblGrid>
                <a:gridCol w="1673280"/>
                <a:gridCol w="874800"/>
                <a:gridCol w="726840"/>
                <a:gridCol w="1017720"/>
                <a:gridCol w="1352520"/>
                <a:gridCol w="935280"/>
                <a:gridCol w="907920"/>
                <a:gridCol w="1065240"/>
              </a:tblGrid>
              <a:tr h="35424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персонал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 (фельдшеры) по приему вызов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-шеры скорой мед. помощ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-цинские сес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-кие сестры анесте-зист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4:25:46Z</dcterms:created>
  <dc:creator>s.shlyafer</dc:creator>
  <dc:description/>
  <dc:language>en-US</dc:language>
  <cp:lastModifiedBy>Елена Александровна Бронникова</cp:lastModifiedBy>
  <cp:lastPrinted>2020-12-02T13:30:30Z</cp:lastPrinted>
  <dcterms:modified xsi:type="dcterms:W3CDTF">2020-12-09T01:52:18Z</dcterms:modified>
  <cp:revision>514</cp:revision>
  <dc:subject/>
  <dc:title>Заполнение сведений о работе службы скорой медицинской помощи в форме федерального статистического наблюдения № 30 «Сведения о медицинской организации» в 2014 г.    Шляфер София Исааковна</dc:title>
</cp:coreProperties>
</file>