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E10D-14F6-404C-B0BE-3C92CAB501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6208-11CD-479E-9D35-9971B717F2F0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4E7-18F5-42FF-90D6-FD320EAAEFA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641C-0DBD-49A3-9930-3B59185454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42C-CE7B-4608-A5F6-DE849C42A3E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8D35-C71C-41B8-A30F-124C0087274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BE69-8E1D-44FB-B326-AD0232E7CD1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8773-7CB2-4668-97BC-6EC7CF27A65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FE6-BBE9-4694-9F75-B6C0409F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680-C609-4DC2-A978-D6766F6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AD6-5E98-4663-8A31-DE1F6246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88C-7369-440E-849A-7D87DF24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0CD-139F-4D26-ADE2-42DA9BB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3D2-8269-4A45-BBD3-2790A0FE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56C-C28F-48E1-8B38-7F9F8A5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756-3617-4ABA-B263-B0764189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130-8CD0-48FF-BBF8-BFD3EF8C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2BA-CF20-404E-8DD3-DD7BB039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5F8-1B0A-4F95-9522-961E6529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7D0-FCDF-4524-932D-90A139D3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732D-1E52-414B-A081-695F1519B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9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1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2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3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1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2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3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9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5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1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2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Алена Александровна Кандеева</cp:lastModifiedBy>
  <cp:lastPrinted>2018-12-10T14:36:03Z</cp:lastPrinted>
  <dcterms:modified xsi:type="dcterms:W3CDTF">2021-12-21T03:13:57Z</dcterms:modified>
  <cp:revision>176</cp:revision>
  <dc:subject/>
  <dc:title>Презентация PowerPoint</dc:title>
</cp:coreProperties>
</file>