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822-718B-4AA9-9CDC-AAC69C11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46A-5D66-4CBA-87F1-68783DAE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A61-683A-4CD3-BAED-874F583F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ECB-38A3-445A-9787-61F1697C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6E9-6378-47A9-AC0E-C1F6EB9A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F80-1640-42D5-8D20-4656D952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FCD-0395-4194-9503-A96E96D2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BF5-09D1-4520-925A-CF8FF6C0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D30-41E4-48C8-8125-008F1D3E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1B7-1F62-400B-B1D5-DAF53AA3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F02-A9D6-4EEF-B1E7-C8D1DF64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8D7-1174-4D75-A530-38B0E2D6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9382-05D9-46E1-82BA-455D12AF1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545040"/>
            <a:ext cx="7921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,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397368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7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62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аличие отделения следует показывать только тогда, когда в отчете имеются штатные и занятые должности врачей, проверить наличие лицензии на данный вид услу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 наличии отделения указать 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1"/>
          <p:cNvSpPr/>
          <p:nvPr/>
        </p:nvSpPr>
        <p:spPr>
          <a:xfrm>
            <a:off x="684360" y="5732640"/>
            <a:ext cx="806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100) Должности и физические лица медицинской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6021360"/>
          <a:ext cx="7921800" cy="365040"/>
        </p:xfrm>
        <a:graphic>
          <a:graphicData uri="http://schemas.openxmlformats.org/drawingml/2006/table">
            <a:tbl>
              <a:tblPr/>
              <a:tblGrid>
                <a:gridCol w="1451160"/>
                <a:gridCol w="309600"/>
                <a:gridCol w="363600"/>
                <a:gridCol w="365040"/>
                <a:gridCol w="365040"/>
                <a:gridCol w="316080"/>
                <a:gridCol w="365040"/>
                <a:gridCol w="365040"/>
                <a:gridCol w="420840"/>
                <a:gridCol w="527040"/>
                <a:gridCol w="585720"/>
                <a:gridCol w="353880"/>
                <a:gridCol w="365400"/>
                <a:gridCol w="374400"/>
                <a:gridCol w="465120"/>
                <a:gridCol w="463680"/>
                <a:gridCol w="465120"/>
              </a:tblGrid>
              <a:tr h="365040">
                <a:tc>
                  <a:txBody>
                    <a:bodyPr lIns="57600" rIns="57600" tIns="0" bIns="0" anchor="b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ологоана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371"/>
          <p:cNvSpPr/>
          <p:nvPr/>
        </p:nvSpPr>
        <p:spPr>
          <a:xfrm>
            <a:off x="949320" y="903960"/>
            <a:ext cx="1163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УКАЗАТЬ ПРИ НАЛИЧИИ , В ЦРБ, где есть отделения проставить количество только по строке 0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 (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л для аутопси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39640" y="367560"/>
            <a:ext cx="8425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АННУЮ ТАБЛИЦУ ЗАПОЛНЯЮТ ТОЛЬКО 3 УЧРЕЖДЕНИЯ: ЗКОД, КМЦ и ЗКПА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9800" y="690480"/>
            <a:ext cx="961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ЦРБ по вскрытиям - категория сложности 1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484280"/>
          <a:ext cx="8280360" cy="537696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 (сумма  вскрытий умерших в стационаре по 14 форме и умерших на дому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у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-во вскрытий умерших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     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в 2-х экземплярах и форму 14 и 30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ием отчетов осуществляется в ЗКПА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ерасимова Анастасия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ститель начальника по ОМР Жевтнева Елена Владимировна (тел. 31-44-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cp:lastPrinted>2023-12-13T07:13:07Z</cp:lastPrinted>
  <dcterms:modified xsi:type="dcterms:W3CDTF">2023-12-14T01:48:01Z</dcterms:modified>
  <cp:revision>61</cp:revision>
  <dc:subject/>
  <dc:title>Слайд 1</dc:title>
</cp:coreProperties>
</file>