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F4D-0B17-4195-BC5D-7F0E5D3D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D8C8-C703-4F2F-8363-630CD045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DC25-64F2-44D7-B516-8B11F368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F98-8252-4C1D-BBEB-7A9B731D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8957-9F65-40E4-BE32-26283D80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5707-2583-461D-A0F2-EE2A853D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9A25-7D3A-49F5-A8C0-D3FFE3F7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6D46-6214-4B56-AAB7-E5717CF0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FD7B-6E35-4FE0-A96A-28B944BB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3691-5BF5-4BC7-BDF7-7FA74214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9DBF-CC7D-4F53-B77C-1C52A2FB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AFB3-DEB8-4121-A647-A868FEEE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7814-8285-4845-B2C2-F3F9274D19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чет по функциональной диагности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а 30 – таблицы 5401, 5402, 540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ли ЭКГ дистанционно – строка 3 таблицы 5402 и строка 51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хоКГ, УЗ исследование сосудов, ЭхоЭГ – в отчет по ультразвуковой диагностике (т. 511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ояснительная запис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Штаты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если совместители – внешние или внутренние. Внутренние – основная специаль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Аппаратур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название – фирма производитель – год выпуска – тех. Состоя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taly.barkan@yandex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11T18:43:47Z</dcterms:created>
  <dc:creator>пк</dc:creator>
  <dc:description/>
  <dc:language>en-US</dc:language>
  <cp:lastModifiedBy>пк</cp:lastModifiedBy>
  <dcterms:modified xsi:type="dcterms:W3CDTF">2024-12-11T19:50:43Z</dcterms:modified>
  <cp:revision>2</cp:revision>
  <dc:subject/>
  <dc:title>Отчет по функциональной диагностике</dc:title>
</cp:coreProperties>
</file>