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5B43-6EF7-427D-B1BA-2BDD9AC5ED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C97B-FC4F-4C89-B0A9-B2F0464952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D49A-5570-48B6-8443-09138B4EDA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EEB0-A52A-4CD0-A657-17E8BB951B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0622-B2E7-4AFD-B241-DE7E2EC554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CCE-47F6-4087-B23B-9B8342B3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F75-21E4-476E-A33F-BA695FCA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E60-368D-45A1-B51A-DAC9124C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133-B052-4952-97A1-CCE715E0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EC8D-6E5E-43B7-829F-A60AD155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75D8-141D-40AF-A827-EA3FBA78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0FD2-D79D-44F9-A2D8-ADF2797B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AEF9-4B50-4B7B-A1B2-080BD454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A3A7-F1C3-4249-8884-7D9C0120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FF7D-43BD-4CFE-8C82-0F563261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4898-388E-4321-92B1-1DA9A9BC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40A-5F2E-4ABD-BE43-9939A624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F629-F607-4CC5-8C99-FAD0F947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D5FA-ED9C-42DE-B65A-B588C301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80A0-6452-4E94-9EB9-5ADE9689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08F8-0F2E-4481-9C02-E823A0E9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DB14-499B-409F-9E89-F282D119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357-661B-4BC1-B19B-80AF9E5D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321-4FB9-4A67-81A4-3979D9AE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364-8F48-4A74-9AC9-C9BA82D2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DCA-04C4-4022-88D7-B4913231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583-7F41-4D98-B2B0-041143E6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79B-2969-4AB2-9990-C6C1B33D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A98-5DD3-46AD-A752-6F9D2822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>
              <a:gd name="textAreaLeft" fmla="*/ 0 w 9037800"/>
              <a:gd name="textAreaRight" fmla="*/ 9038160 w 9037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1A48-A670-4AA1-BE5E-17159A59B8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60EC-4412-44B0-925E-8BA7438465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за 2019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тьяна Анатольевна Макс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лавный внештатный специалист по проблемам диагностики и лечения ВИЧ – инфекции МЗ З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строку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оказывается число пациентов, с ВИЧ-инфекцией с проявлениями туберкулё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строке 1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ется число пациент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ВИЧ-инфекцией с проявлениями Т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ды В20.0, В20.7, В22.7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и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мерших в отче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 всех причин, то есть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ды В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E7B9-E59E-48AD-9783-305EBA6497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500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межформенный контроль с формой 13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ой 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5000 включают женщин, проживающих на прикрепленной территории и находящихся под диспансерным наблюдением в данной медицинск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казывается общее число беременных женщин с болезнью, вызванной ВИЧ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ершивших беременность в отчетном го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строке 2 показываются сведения о тех из них, кто завершил беременность родами в отчетном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B825-2ABC-422C-9A2C-15ED7822C6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60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е 3 пок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е число пациен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лезнью, вызванной ВИЧ, из числа состоявших под наблюдением в отчетном году, зарегистрированных для ле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е 4 - те из них, кто был зарегистрирован для леч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впервые в жизни установленным диагноз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и, вызванной ВИЧ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рафа 5 не заполня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407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ываются только те пациенты с ВИЧ-инфекцией, которы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ыли проле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текущем год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201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0DA8-EDA8-44B2-BDF9-ED6CB62DC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kkib.sibhos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5F93-7D7A-47F0-8A2E-277D756771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рочник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в себя только тех лиц, которые были обследованы на антитела к ВИЧ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дицинских организациях, относящихся к Минздраву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ока 1, пункт 2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ловия контроля: строка 1, пункт 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пункт 3 (В20-24)+пункт 4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14F2-D359-4A74-A8B9-247F369E5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476280"/>
            <a:ext cx="86090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0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обследованных на антитела к ВИЧ в отчетном году, вс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троль с ф.30, т.53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число лиц, у которых при исследовании крови на антитела к ВИЧ получены положи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       контроль с ф.30, т.53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2) выявлено: пациентов больных ВИЧ-инфекцией (код МКБ 10 В20-В24) 3 _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контроль с ф.61, т.1000, стр.1+2, гр. 05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 с бессимптомным инфекционным статусом (код МКБ-10 Z21)  4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__контроль с ф.61, т.1000, стр.59+60, гр. 05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7000"/>
            <a:ext cx="160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981000"/>
            <a:ext cx="830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.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очника 3100, пункт2-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5+46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 47+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таб.1000, стр.1+2, гр.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1-4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3-4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.49-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51-5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A2C0-4064-4937-A935-4F682CCB5E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.57- 60, гр.5-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57-5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М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 59-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подстрочника 3100, пункт  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3916-87B1-4809-A4E5-60DBD8C1F2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1-8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 подстрочника 3100,  пункт 1-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роме посмертных случае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10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 подстрочник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100, пункт 4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9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аб.1000, стр.57-58, гр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957F-75CF-4843-A065-7192D4C7FE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линические стад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FB36-AE94-4575-B65B-D08993393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3000 показываются только те пациенты с ВИЧ-инфекцией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торые были обслед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 отчетном году – 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44F3-6B14-4302-90D7-5C9ABB1B9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92120" y="1555920"/>
          <a:ext cx="8228160" cy="4735440"/>
        </p:xfrm>
        <a:graphic>
          <a:graphicData uri="http://schemas.openxmlformats.org/drawingml/2006/table">
            <a:tbl>
              <a:tblPr/>
              <a:tblGrid>
                <a:gridCol w="3384720"/>
                <a:gridCol w="384120"/>
                <a:gridCol w="768240"/>
                <a:gridCol w="923760"/>
                <a:gridCol w="922680"/>
                <a:gridCol w="922320"/>
                <a:gridCol w="922320"/>
              </a:tblGrid>
              <a:tr h="386640"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marL="20520"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с впервые в жизни установленным диагно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конец отчетног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возрас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4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возрас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4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больные ВИЧ-инфекцией с проявлениями туберкулеза, 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0, В20.7, В2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с проявлениями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явлениями туберкулеза и других инфекц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явлениями туберкулеза и других болезней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: с бактериовыделением, определяемым любыми метод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5): методом простой микроскопии мокро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 (из стр.5)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ножественной лекарственной устойчивостью микобактерий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58320" rIns="58320" tIns="0" bIns="0" anchor="ctr">
                      <a:noAutofit/>
                    </a:bodyPr>
                    <a:p>
                      <a:pPr marL="290520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широкой лекарственной устойчивостью микобактерий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 (из стр.1) обследовано на иммунны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имели уровень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:    более 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больные ВИЧ-инфекцией с проявлениями туберкулеза, которым установлен диагноз вирусного гепатита (из стр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гепатит 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6, В18.0, В18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патит 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7.1, В18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всего (из стр.1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 – муж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 – городских жи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565200" y="827640"/>
            <a:ext cx="81565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spAutoFit/>
          </a:bodyPr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. Диспансерное наблюдение за пациентами, больными ВИЧ-инфекцией с проявлениями туберкуле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400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по ОКЕИ: человек – 7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701320" y="2274840"/>
            <a:ext cx="347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нтроль с ф. 33, т. 2100,стр.13, гр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лево 8"/>
          <p:cNvSpPr/>
          <p:nvPr/>
        </p:nvSpPr>
        <p:spPr>
          <a:xfrm>
            <a:off x="5429160" y="2325600"/>
            <a:ext cx="276480" cy="25884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62680" y="2584440"/>
            <a:ext cx="882360" cy="62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троль с ф. 61,    т. 2000, стр. 21, 22, 41, гр.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6899400" y="2584440"/>
            <a:ext cx="857160" cy="62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троль с ф. 61, т. 2000,стр.21,22,41, гр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284040" y="128520"/>
            <a:ext cx="851400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аблицу 40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только тех пациентов, у которых туберкулез диагностирован как проявление болезни, вызванной ВИЧ, и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е включают пациент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которых туберкулез был выявлен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о установления диагноз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, вызванной ВИ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Волошина ЛИ; Центр СПИД Чита</dc:creator>
  <dc:description/>
  <dc:language>en-US</dc:language>
  <cp:lastModifiedBy>Миргород</cp:lastModifiedBy>
  <dcterms:modified xsi:type="dcterms:W3CDTF">2019-12-19T04:25:39Z</dcterms:modified>
  <cp:revision>210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