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469-3AD0-4BB9-B562-690CE9E9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FAE-A2F5-4AC9-B711-2D79A4C0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978-34E1-4180-86B7-C7154BF0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397-A7D3-4396-836B-61A6DBBB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A65-E22C-4347-A529-5C715645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2A2-BC79-42FF-878D-AF78A2AD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031-BFE3-40FA-8E38-13DAD8D0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DE6-5DD9-4463-A985-4A6D182E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114-29CE-48DD-BA17-326DD8FD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AE0-778C-412B-949B-C585210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E23-DED8-437E-A05E-BF88964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BB5-B974-4332-83E7-CBC9E66E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F8CD-821E-409B-8D35-95ABA27E8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469080"/>
            <a:ext cx="79218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единица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431496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ь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7497"/>
          <p:cNvSpPr/>
          <p:nvPr/>
        </p:nvSpPr>
        <p:spPr>
          <a:xfrm>
            <a:off x="-734760" y="-1795680"/>
            <a:ext cx="106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100)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Коды по ОКЕИ: человек – 792;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371"/>
          <p:cNvSpPr/>
          <p:nvPr/>
        </p:nvSpPr>
        <p:spPr>
          <a:xfrm>
            <a:off x="516240" y="904320"/>
            <a:ext cx="8193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ы по ОКЕИ: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39640" y="474480"/>
            <a:ext cx="842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ы по ОКЕИ: человек – 792; единица – 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71400" y="690840"/>
            <a:ext cx="831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Код по ОКЕИ: человек – 7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484280"/>
          <a:ext cx="8280360" cy="515772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: человек – 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согласно отправленной формы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вместе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 протоколам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тологоанатомических вскрытий в районе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ончарова Марина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-статистик Хамина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dcterms:modified xsi:type="dcterms:W3CDTF">2019-12-19T02:09:59Z</dcterms:modified>
  <cp:revision>47</cp:revision>
  <dc:subject/>
  <dc:title>Слайд 1</dc:title>
</cp:coreProperties>
</file>