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35E7-E183-4977-B438-1862A2505A3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1F03-9E00-4F6E-83F3-7A435F50341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716-E86D-4703-86E3-2E1B61D8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8E8-4691-4AB6-90C8-856FB372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937-EA75-4DA5-829D-F8DAE933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CEC-2C92-448A-AE01-1A0387FB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C57-4A26-42F4-B5EA-F6831646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66F-CAF0-418E-AFD8-E3FCEBF1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E8D-D448-4CBB-9E10-AF32C2F2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27D-AAD9-4ADA-96E7-7B44C4E5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882-B420-4E07-8FBE-B0DEACBF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0D2-906F-4F0A-B5FF-5DF33289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726-BFB1-4B5E-A215-8B61121A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1E5-BD76-43BE-8734-CC950267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00FD-9AE6-4D15-9B20-EC788AB908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ndchita.ru/" TargetMode="External"/><Relationship Id="rId2" Type="http://schemas.openxmlformats.org/officeDocument/2006/relationships/hyperlink" Target="http://www.kndchita.ru/" TargetMode="External"/><Relationship Id="rId3" Type="http://schemas.openxmlformats.org/officeDocument/2006/relationships/hyperlink" Target="http://www.kndchita.r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21120" y="5122800"/>
            <a:ext cx="4322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А. Б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МР ГАУЗ «Забайкальский краевой 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4960" y="1720800"/>
            <a:ext cx="85201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12800" y="191556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i?id=276645700-65-72&amp;n=21"/>
          <p:cNvPicPr/>
          <p:nvPr/>
        </p:nvPicPr>
        <p:blipFill>
          <a:blip r:embed="rId1"/>
          <a:stretch/>
        </p:blipFill>
        <p:spPr>
          <a:xfrm>
            <a:off x="441360" y="264960"/>
            <a:ext cx="1119240" cy="103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4960" y="1219320"/>
            <a:ext cx="85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тч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ам федерального статистического наблю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7 и №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5920" y="23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Бланки форм № 11 и № 37 за отчетный 2019 год остаются без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ФСН утверждены приказом Росс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№ 410 от 16.10.2013 г. (формы № 11 и № 37). Минздрав России поставил задачу разработки новой формы, которая в большей степени соответствует российской и мировой наркологической ситу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новой формы был разослан во все субъекты России для ознакомления и об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изучаются и анализируются все предложения и дополнения, полученные от су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B158-4CD4-4BEB-8ADC-BB1F4BD5B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9440" y="1609560"/>
            <a:ext cx="82296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табличные и межформенные проверки в 2019 году остаются без изме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47440"/>
            <a:ext cx="8350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т. формы № 11 и № 37 в 2 экз., подписанные руководителем, с печатью, проштампованные в МЗ в отделе стат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. № 30 (разделы «штаты, кадры», «посещения», «мед. освидетельствование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. № 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лан работы наркологической службы района на 2020 г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нъюнктурный отчет за 2019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9B48-1449-4B26-BE7E-5F3B8147D0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57200" y="0"/>
            <a:ext cx="8229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сдаче годового отчета и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0" y="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Контакты:</a:t>
            </a: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OMR-KND@yande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. 41-64-4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0" y="2619360"/>
            <a:ext cx="91440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Официальный сайт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АУЗ «Забайкальский краевой наркологический диспансер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nd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hita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528480" y="961920"/>
            <a:ext cx="799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bolnica"/>
          <p:cNvPicPr/>
          <p:nvPr/>
        </p:nvPicPr>
        <p:blipFill>
          <a:blip r:embed="rId1"/>
          <a:stretch/>
        </p:blipFill>
        <p:spPr>
          <a:xfrm>
            <a:off x="2759040" y="3930480"/>
            <a:ext cx="3575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Елена</cp:lastModifiedBy>
  <dcterms:modified xsi:type="dcterms:W3CDTF">2019-12-18T07:34:14Z</dcterms:modified>
  <cp:revision>210</cp:revision>
  <dc:subject/>
  <dc:title>PowerPoint Template</dc:title>
</cp:coreProperties>
</file>