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4B3-B36C-4B7E-BAFA-04B881A4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8B82-A0A7-4B0D-94B4-AF58F679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CFC-D62C-4B9A-95B6-3E0C771A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27C-A0B6-4E4A-A53A-0BF131A5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5E66-65C1-42BE-8B06-5A109AB7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CCB7-8972-4730-AE36-715F8BE0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8F5D-332D-4EF6-8F69-727E6277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32C6-980F-4557-BCAA-CC5B105A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B4F0-B1FF-4D11-AB67-1E7A41A8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3076-5E58-438D-B980-913A8532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F659-8C7F-4076-A51E-EB1005C0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CB21-3E7B-40E9-9A86-D47340D4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0938-2665-4C57-8EC9-55E37909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C66E-B463-4555-82A7-25F3C995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B8C1-E012-4AE5-992C-77BBFD94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CCE6-30E8-4229-AB09-0CD53E8A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163A-D24C-4BC2-9884-56DC926A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4EE-DE3D-43CE-B1CA-5BF8AC75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485-3B7E-4B51-AEF4-A90157CF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7B7-C55A-4631-A72D-9D1DFBC7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483D-33C5-4AD2-8EC3-20ABB3C2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2888-F046-431B-BF93-9BC38944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E8F-A520-43AA-BCF5-83DB1376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FDE-71CF-4287-9703-EE2AB7A0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B95E-0771-4268-B671-1730AFA973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defRPr>
            </a:lvl1pPr>
          </a:lstStyle>
          <a:p>
            <a: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9194-72B8-409F-906B-3DFC617820F9}" type="slidenum">
              <a: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iirg.ru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РАЗДЕЛ </a:t>
            </a:r>
            <a:r>
              <a:rPr b="1" lang="en-US" sz="5400" spc="-1" strike="noStrike">
                <a:solidFill>
                  <a:srgbClr val="000000"/>
                </a:solidFill>
                <a:latin typeface="Calibri Light"/>
              </a:rPr>
              <a:t>VI</a:t>
            </a: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.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РАБОТА ДИАГНОСТИЧЕСКИХ ОТДЕЛЕНИЙ (КАБИНЕТОВ)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занцев Константин Борисо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5049000" y="577044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.12.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3587760"/>
          <a:ext cx="10515600" cy="420696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еоденситометры рентгенов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вские аппараты всего (без компьютерных томограф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Р томограф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менее 1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ля костей и суставов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е 3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явочные автоматы и кам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91512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истемы компьютерной радиографии (рентгенографии на фотостимулируемых люминофора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838080" y="1625760"/>
          <a:ext cx="10515600" cy="195084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48780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1224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9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агнитно-резонансные томографи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1690560"/>
          <a:ext cx="10515600" cy="4587840"/>
        </p:xfrm>
        <a:graphic>
          <a:graphicData uri="http://schemas.openxmlformats.org/drawingml/2006/table">
            <a:tbl>
              <a:tblPr/>
              <a:tblGrid>
                <a:gridCol w="4560840"/>
                <a:gridCol w="682920"/>
                <a:gridCol w="785520"/>
                <a:gridCol w="1657440"/>
                <a:gridCol w="1658880"/>
                <a:gridCol w="1170000"/>
              </a:tblGrid>
              <a:tr h="1828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внутривенным  контраст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 3 выполне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условиях дневного стациона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выполнено М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40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д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гких и средост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брюшной полости и забрюшинного простран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малого т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чной желе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лов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и спин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: шейного отде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рудного отдела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яснично-крестцового отде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“голова-шея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тей, суставов и мягких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осу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прочих органов и сис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венционные вмешательства под МРТ – контролем (из стр.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Box 2"/>
          <p:cNvSpPr/>
          <p:nvPr/>
        </p:nvSpPr>
        <p:spPr>
          <a:xfrm>
            <a:off x="6719760" y="4782960"/>
            <a:ext cx="4891320" cy="14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нумер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ие отделов позвоночника по аналогии с К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ие строки для подсчета исследований сосуд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53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563c1"/>
                </a:solidFill>
                <a:uFillTx/>
                <a:latin typeface="Calibri Light"/>
                <a:hlinkClick r:id="rId1"/>
              </a:rPr>
              <a:t>niirg.ru</a:t>
            </a:r>
            <a:br>
              <a:rPr sz="8000"/>
            </a:b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ЕСКИД (ЕДИНАЯ СИСТЕМА КОНТРОЛЯ И УЧЕТА ИНДИВИДУАЛЬНЫХ ДОЗ ОБЛУЧЕНИЯ ГРАЖДАН)</a:t>
            </a: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ДОЗ-1,2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обновление от 11.12.2019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Доз – 3  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новление от 10.01.201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8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КАЗАНЦЕВ КОНСТАНТИН БОРИСОВИЧ</a:t>
            </a:r>
            <a:br>
              <a:rPr sz="4400"/>
            </a:br>
            <a:br>
              <a:rPr sz="4400"/>
            </a:br>
            <a:r>
              <a:rPr b="1" lang="ru-RU" sz="9600" spc="-1" strike="noStrike">
                <a:solidFill>
                  <a:srgbClr val="000000"/>
                </a:solidFill>
                <a:latin typeface="Calibri Light"/>
              </a:rPr>
              <a:t>8-924-272-8882</a:t>
            </a:r>
            <a:br>
              <a:rPr sz="9600"/>
            </a:br>
            <a:br>
              <a:rPr sz="9600"/>
            </a:br>
            <a:r>
              <a:rPr b="1" lang="en-US" sz="7200" spc="-1" strike="noStrike">
                <a:solidFill>
                  <a:srgbClr val="000000"/>
                </a:solidFill>
                <a:latin typeface="Calibri Light"/>
              </a:rPr>
              <a:t>dr.kazancev2017@yandex.ru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bject 2"/>
          <p:cNvSpPr/>
          <p:nvPr/>
        </p:nvSpPr>
        <p:spPr>
          <a:xfrm>
            <a:off x="823896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ject 3"/>
          <p:cNvSpPr/>
          <p:nvPr/>
        </p:nvSpPr>
        <p:spPr>
          <a:xfrm>
            <a:off x="2208240" y="2565360"/>
            <a:ext cx="1440" cy="3225960"/>
          </a:xfrm>
          <a:custGeom>
            <a:avLst/>
            <a:gdLst/>
            <a:ahLst/>
            <a:rect l="l" t="t" r="r" b="b"/>
            <a:pathLst>
              <a:path w="1904" h="3225800">
                <a:moveTo>
                  <a:pt x="1587" y="0"/>
                </a:moveTo>
                <a:lnTo>
                  <a:pt x="0" y="322580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bject 4"/>
          <p:cNvSpPr/>
          <p:nvPr/>
        </p:nvSpPr>
        <p:spPr>
          <a:xfrm>
            <a:off x="1919160" y="115920"/>
            <a:ext cx="837432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bject 7"/>
          <p:cNvSpPr/>
          <p:nvPr/>
        </p:nvSpPr>
        <p:spPr>
          <a:xfrm>
            <a:off x="825192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6"/>
          <p:cNvSpPr/>
          <p:nvPr/>
        </p:nvSpPr>
        <p:spPr>
          <a:xfrm>
            <a:off x="165240" y="179280"/>
            <a:ext cx="11255400" cy="62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водятся большие изменения в раздел 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АБОТА ДИАГНОСТИЧЕСКИХ ОТДЕЛЕНИЙ (КАБИНЕТОВ)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00 «Рентгенодиагностические исследования (без профилактических исследований)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511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нтгенохирургия, рентгеноэндоваскулярные диагностика и лече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3 «Компьютерная томограф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5114 «Рентгенологические профилактические (скрининговые) обследова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7 «Аппараты и оборудование для лучевой диагностик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9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гнитно-резонансные томограф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.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Рентгенодиагностические исследования (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без профилактических исследований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8847360" cy="23288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Изображение выглядит как экран, здание, легкий, сидит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38080" y="4073400"/>
            <a:ext cx="891540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1. Рентгенодиагностические исследования (без профилактических исследований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4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8204400" cy="21589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Изображение выглядит как экран, здание, легкий, часы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52480" y="3863880"/>
            <a:ext cx="8204040" cy="1889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7566120" y="5091120"/>
            <a:ext cx="4292640" cy="97776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ы позвоночн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а денситометрия Проставлены кресты в ячейках, кото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не заполняю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1. Рентгенодиагностические исследования (без профилактических исследований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9107640" cy="23972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Изображение выглядит как экран, здание, часы, большой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38080" y="4118040"/>
            <a:ext cx="9107640" cy="1881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"/>
          <p:cNvPicPr/>
          <p:nvPr/>
        </p:nvPicPr>
        <p:blipFill>
          <a:blip r:embed="rId3"/>
          <a:srcRect l="-274" t="-39826" r="21380" b="-18605"/>
          <a:stretch/>
        </p:blipFill>
        <p:spPr>
          <a:xfrm>
            <a:off x="825480" y="5904000"/>
            <a:ext cx="9107640" cy="2840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7643880" y="5167440"/>
            <a:ext cx="4292640" cy="143640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 томосинтез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ы околоносовые пазухи, челюсти и  височная к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авлены кресты в ячейках, кото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не заполняю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3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омпьютерная томограф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1494000"/>
          <a:ext cx="10515600" cy="4846320"/>
        </p:xfrm>
        <a:graphic>
          <a:graphicData uri="http://schemas.openxmlformats.org/drawingml/2006/table">
            <a:tbl>
              <a:tblPr/>
              <a:tblGrid>
                <a:gridCol w="4192560"/>
                <a:gridCol w="685800"/>
                <a:gridCol w="1094040"/>
                <a:gridCol w="1552320"/>
                <a:gridCol w="1552680"/>
                <a:gridCol w="1438200"/>
              </a:tblGrid>
              <a:tr h="1828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и сист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гр. 3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внутривенного контрас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 внутривенным контрастирова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 ч.: голов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колоносовых пазу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исочной к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 шеи, гортани и гортаногл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груди (без сердца и коронарных сосуд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дца и коронарных сосу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брюшной полости (печень,  селезенка,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желудочная же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ек и мочевых пу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малого т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звоночника, из не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шейный отдел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грудной отде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поясничный и крестцовый  отдел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остей, суставов и мягких тканей конеч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c55a11"/>
                          </a:solidFill>
                          <a:latin typeface="Calibri"/>
                        </a:rPr>
                        <a:t>прочих органов и сис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нгиография иных сосу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4" name="TextBox 1"/>
          <p:cNvSpPr/>
          <p:nvPr/>
        </p:nvSpPr>
        <p:spPr>
          <a:xfrm>
            <a:off x="7445520" y="4572000"/>
            <a:ext cx="4093920" cy="19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ы височны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 и околоносовые пазух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ы отделв позвоночн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тавы, коненчости и кости таза объеденин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ы столбцы 4 и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14.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Рентгенологические 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профилактические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скрининговые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) обследования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1709640"/>
          <a:ext cx="10515600" cy="4456080"/>
        </p:xfrm>
        <a:graphic>
          <a:graphicData uri="http://schemas.openxmlformats.org/drawingml/2006/table">
            <a:tbl>
              <a:tblPr/>
              <a:tblGrid>
                <a:gridCol w="6042240"/>
                <a:gridCol w="596880"/>
                <a:gridCol w="893520"/>
                <a:gridCol w="1492560"/>
                <a:gridCol w="1490400"/>
              </a:tblGrid>
              <a:tr h="2350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ям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цам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рентгеновских профилактических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грудной клетки, всего,  в том числе выполнено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пленочных флюорограф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передвижных пленочных флюорографических установках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цифровых флюорографах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передвижных цифровых флюорографических установ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графий на плен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изкодозных компьютерных томограф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рентгеновских профилактических исследований молочных же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 них выполнено:  на пленочных аппара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цифровых аппаратах и аппаратах, оснащенных систем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ьютерной радиографи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передвижных маммографических установка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а аппаратах с функцией томосинт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7" name="TextBox 1"/>
          <p:cNvSpPr/>
          <p:nvPr/>
        </p:nvSpPr>
        <p:spPr>
          <a:xfrm>
            <a:off x="7605720" y="4708440"/>
            <a:ext cx="4194000" cy="20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у 1 добавлено слово "рентгеновски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2.1 добавлено "в том числе ... пленочны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а строка 1.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у 2 добавлено слово "рентгеновски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строк 4, 8  (старая таблица) "на цифровых аппаратах и системах  компьютерной радиографии"  изменена на  "на цифровых аппаратах и аппаратах, оснащенных системой компьютерной радиографии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1725480"/>
          <a:ext cx="10515600" cy="5029200"/>
        </p:xfrm>
        <a:graphic>
          <a:graphicData uri="http://schemas.openxmlformats.org/drawingml/2006/table">
            <a:tbl>
              <a:tblPr/>
              <a:tblGrid>
                <a:gridCol w="4494240"/>
                <a:gridCol w="658800"/>
                <a:gridCol w="1033560"/>
                <a:gridCol w="1224000"/>
                <a:gridCol w="846000"/>
                <a:gridCol w="1128960"/>
                <a:gridCol w="1130040"/>
              </a:tblGrid>
              <a:tr h="15696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еуправляемые поворотные столы-штативы с функцией рентген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3 рабочих мес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2 рабочих ме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1 рабочее мест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фровые аппараты для исследований органов грудной клетки (цифровые флюор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шасси автомоби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еночные флюорограф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шасси автомоби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латны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вижные рентгенотелевизионные установки типа С-ду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урологически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ммографически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функцией томосинте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тальные аппара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прицельные (радиовизи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норамные томографы (ортопантом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тальные томограф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иографические аппараты стационар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249640"/>
          <a:ext cx="10515600" cy="306360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27468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1224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ные томограф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пошаг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ральные односрез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ральные многосрезов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838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 ч.: менее 16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-40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4 ср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 и более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виж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4T17:34:54Z</dcterms:created>
  <dc:creator>Игорь Тюрин</dc:creator>
  <dc:description/>
  <dc:language>en-US</dc:language>
  <cp:lastModifiedBy>Елена Александровна Бронникова</cp:lastModifiedBy>
  <dcterms:modified xsi:type="dcterms:W3CDTF">2019-12-20T01:15:28Z</dcterms:modified>
  <cp:revision>32</cp:revision>
  <dc:subject/>
  <dc:title>Работа диагностических отделений</dc:title>
</cp:coreProperties>
</file>