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49B26-7ADF-43C9-A3DA-388F663FC7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F4E70-7DAA-4413-B9A3-07FD05D08DF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Open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0" name="Text Box 2"/>
          <p:cNvSpPr/>
          <p:nvPr/>
        </p:nvSpPr>
        <p:spPr>
          <a:xfrm>
            <a:off x="685800" y="4400640"/>
            <a:ext cx="54864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6388-B2D3-4B4F-97A3-6E09A2D31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F845-D9EB-4DC4-888E-C4BC5EBCD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696F-12D5-4CCE-8F81-1B53DEF01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EADD-1263-4040-BF1F-AC08CEA97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22C8-7764-4CDB-8B59-B6A27EACC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4B43-7518-4F43-A8F7-D836285C3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D950-85A4-4231-A7D3-47A392516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213E-2A3D-4217-ACE7-25211316D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F62D-C206-4245-8A05-10F718160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A152-33D9-45F8-BC53-E18451E8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4C1E-09E2-4DC6-9E7C-09194348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A20E-8982-4817-AD73-9DE7068A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B4FD0-A4E1-43F3-B916-600FFFFD1D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одовой отчет за 2019 г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ункциональная диагност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яснительная запис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95280" y="1989000"/>
          <a:ext cx="8353440" cy="1870200"/>
        </p:xfrm>
        <a:graphic>
          <a:graphicData uri="http://schemas.openxmlformats.org/drawingml/2006/table">
            <a:tbl>
              <a:tblPr/>
              <a:tblGrid>
                <a:gridCol w="466560"/>
                <a:gridCol w="1646280"/>
                <a:gridCol w="1290600"/>
                <a:gridCol w="773280"/>
                <a:gridCol w="1033560"/>
                <a:gridCol w="1788840"/>
                <a:gridCol w="1354320"/>
              </a:tblGrid>
              <a:tr h="239040">
                <a:tc gridSpan="7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3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О врач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оянный или совместите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если совместитель – основная специальность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ж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егор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ы исследования, которые выполня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ы исследования, которыми владе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TextBox 4"/>
          <p:cNvSpPr/>
          <p:nvPr/>
        </p:nvSpPr>
        <p:spPr>
          <a:xfrm>
            <a:off x="324000" y="1484280"/>
            <a:ext cx="43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Д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324000" y="414972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ППАРА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95280" y="4797360"/>
          <a:ext cx="8353440" cy="365040"/>
        </p:xfrm>
        <a:graphic>
          <a:graphicData uri="http://schemas.openxmlformats.org/drawingml/2006/table">
            <a:tbl>
              <a:tblPr/>
              <a:tblGrid>
                <a:gridCol w="520560"/>
                <a:gridCol w="2916360"/>
                <a:gridCol w="2227320"/>
                <a:gridCol w="1481040"/>
                <a:gridCol w="1208160"/>
              </a:tblGrid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готови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од ввода в эксплуатац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х. состоя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се компьютерные электрокардиографы – аппараты (Кардиометр, Поли-Спектр,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CG-Easy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CG-Dongle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(кардиофлешка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се ультразвуковые методы (ЭхоКГ, УЗДГ сосудов, ЭхоЭГ, нейросонография) –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 30 форме – в отчет по УЗИ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о в пояснительной записке указать количество и на каком аппарат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ульсоксиметрию в рамках врачебного осмотра в отчет не вносим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611280" y="1341360"/>
            <a:ext cx="7848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ркан Виталий Станислав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рожная клиническая больница на ст.Чита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А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РЖД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.Чита, ул.Горбунова, 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 раб:  8 914 516 570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 сот:   8 924 270 933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taly.barkan@yandex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19T00:55:17Z</dcterms:created>
  <dc:creator>пк</dc:creator>
  <dc:description/>
  <dc:language>en-US</dc:language>
  <cp:lastModifiedBy>пк</cp:lastModifiedBy>
  <dcterms:modified xsi:type="dcterms:W3CDTF">2019-12-19T04:31:56Z</dcterms:modified>
  <cp:revision>20</cp:revision>
  <dc:subject/>
  <dc:title>Слайд 1</dc:title>
</cp:coreProperties>
</file>