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636-465C-4268-B393-29C2BFA6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AB8-33CD-4F54-8D3C-842A7C2E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0AA-24B8-4075-A23A-2A686D6C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2C6-EC84-4453-A888-8D657FD9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25E1-E758-453F-9EE3-FD1E5865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32CF-4B24-4E3C-BC14-6B3A5C80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C014-5B00-4CEC-A6B2-229B1C71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A59E-61AB-4723-9D82-5D7B35A7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9019-A885-4A37-8EED-3201BE7D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B228-274D-4781-BEDE-45DABE4C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70FD-7C68-4C57-894C-37CEB85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77F-70FC-4528-B63A-DF2F7F8F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DC0C-2D95-4D45-A629-8624952F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F028-1D2F-45AA-A52D-B41C967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D6BB-FC38-49B7-BCB8-5B9A658A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E4C4-6C7D-4CD8-BCB8-FE68E6D2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AB8D-B9B1-4948-9476-864894EF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0169F-4B99-489E-9A19-E012C673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F37BC-AA9C-41CA-9836-591C12E4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3389A-75F4-4F23-9BF1-B9161609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ACFE-C995-42FD-A46F-292CA379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1782-FF99-4CF6-94F9-8DF69B95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69B-D68C-4E03-941C-1A57AF57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0D48-5697-41DE-8D1D-0F4A8B32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11F7-666E-4CB0-B5ED-4135939D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E8BE3-2043-4EC1-8A6D-33BD1D50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ACE6-01C7-499C-8EEA-03BFD3F9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2DC7-8BB1-40C8-A9C9-C32C2AE6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ADB5D-8F57-401B-9922-2478B8F8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109AB-2730-4B99-9974-D518A30C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9F0C3-84A3-4B29-8D6A-8B578FC6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F632C-7C90-40B0-9F0B-685DA7A7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20155-EE8B-48A1-B946-8EB75116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5C2-CF61-4500-9DEC-65E4642C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5FF8C-F972-43A1-96A7-8E7278F7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A0DF3-5B61-4F79-A1E6-B381B8C1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E8405-073B-4929-AAC8-50F8F58F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05AB-6A95-4181-BC8A-B7F7D2A0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47DC6-0C89-4D2C-824F-8CCB89F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3EC6-829B-4BFA-A81C-D81DBFB1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00C81-AD85-490F-B2B0-ABB548B9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EE7EB-2F1A-4189-9194-5330BFA5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7848-EA81-4474-A516-DB95B406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67F-051F-4A9A-843C-DEBC9106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EA9-0B5B-450E-8A3F-9BD9F1E4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927-85C3-40AE-9DBD-B707E14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277-23A0-43E1-8CE9-9B7756B2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3D6-32C0-4816-8250-3CDB8D48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D8B8-D1A7-4CC4-BA88-80EB0D2B75A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FCC2-3598-41CF-A38F-03525441A89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8361-63C8-4660-B1C9-F6A0EF24DD5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CEF7-8527-4C83-8720-F399709AB70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682560" y="2432160"/>
            <a:ext cx="8070840" cy="3949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15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Constantia"/>
              </a:rPr>
              <a:t>Брендирование автомобилей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ализация мероприятий по приобретению медицинского автомобильного транспорта в 2021-2022г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C:\Users\Главная медсестра\Desktop\авто у приемного — копия.jpg"/>
          <p:cNvPicPr/>
          <p:nvPr/>
        </p:nvPicPr>
        <p:blipFill>
          <a:blip r:embed="rId1"/>
          <a:stretch/>
        </p:blipFill>
        <p:spPr>
          <a:xfrm>
            <a:off x="457200" y="262728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Главная медсестра\Desktop\авто у гаража.jpg"/>
          <p:cNvPicPr/>
          <p:nvPr/>
        </p:nvPicPr>
        <p:blipFill>
          <a:blip r:embed="rId2"/>
          <a:stretch/>
        </p:blipFill>
        <p:spPr>
          <a:xfrm>
            <a:off x="4648320" y="26272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воорловская участковая больниц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1 год – 16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2 год - 14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C:\Users\Главная медсестра\Desktop\нуб нива.jpg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xuJLec</dc:creator>
  <dc:description/>
  <dc:language>en-US</dc:language>
  <cp:lastModifiedBy>Главная медсестра</cp:lastModifiedBy>
  <dcterms:modified xsi:type="dcterms:W3CDTF">2022-11-11T09:06:49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