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141-1397-40C9-AA01-4E7F6A88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FB9-1E7B-44EF-B963-970D2547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842-CF7D-4297-B1A9-D72C3EB8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243-85BF-4A28-B355-E9027AED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FAC2-012F-4A8A-9F3A-53CC5E77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1076-1E64-4428-8E47-6400C7BC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195D-E57A-4F40-BB09-6BF35D8C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BD32-DE2F-4B91-A4D4-723B2006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D150-8DA6-45E1-8943-1C7AB5E5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9060-BE41-4137-A846-BCBBF8B5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B075-5BFB-4E90-82A8-169D96E5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B11-2391-46A0-9A89-4ACEA7FE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5BD1-A6AA-49A8-B9CA-443D4AA1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58B7-1002-412E-BEBE-096D11A2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1252-36CE-4E40-9C38-BC80A258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EDF4-ABD6-4E22-BB38-59148071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042D-7B59-4F19-A8EE-72A469B9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8E5AF-B610-4106-B6EE-0EAA630A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F4FBD-690A-4F37-A35D-ABBF4B7A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2D7C4-41FB-4232-93FD-995964EC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45AD9-A303-4859-BEAF-6B61A104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872BC-CAA8-4D50-BF26-D4EA1E6D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3EC-F96E-4B3C-A1C8-50E79B91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A2B65-78AA-4331-A81A-C9143266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E6E96-2A87-4019-B218-196974BB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AB4A7-FC7D-42FA-9663-B900B021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17F76-A189-426F-99D1-3EAACDEC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1BFFD-D8E2-4CD1-B31A-D14AFA62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C020D-5EB4-4B88-BF1D-1377DF8B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23AE1-C96A-4241-B6BB-60C4405E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21A14-872C-4351-9EBE-D4C529F2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7935F-42DE-4D24-B873-D519857D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6210D-874B-4392-AFFE-061205E7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75E-17F3-4951-97A8-EFE8E362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E8E7-C601-4BA8-9EE6-961667E9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7748A-92A5-489E-839E-19B97791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6C94-FC61-4789-A874-C51459E8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FF366-E48A-42BC-A9C7-64B76B25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88F65-22E5-4AED-8BDA-3D38EF1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1AB04-6239-49CF-B558-FBEF5CFD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70745-6E5C-4829-87DB-C3587D4B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93626-8CAC-4ABC-A379-D4A88743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ACD69-5B4D-4670-8C92-39AB2F0D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14D-1BBD-41FE-9558-4385BFB3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525-D925-405C-BC43-B4A919B5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C34-E96A-4522-A360-6A463E01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042-133E-4F9A-B308-658E8F9C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4F8F-846A-4001-B36F-BA63B483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CD86-E5F0-4D4F-BB40-E9D5E1014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7A04-2C78-4748-9AB7-548366F7E3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8FE5-2BB3-4027-BFA3-A17312D37A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9DFF-6558-498A-BDF1-3550AF0F44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Таблица 3" descr=""/>
          <p:cNvPicPr/>
          <p:nvPr/>
        </p:nvPicPr>
        <p:blipFill>
          <a:blip r:embed="rId1"/>
          <a:stretch/>
        </p:blipFill>
        <p:spPr>
          <a:xfrm>
            <a:off x="281160" y="1292400"/>
            <a:ext cx="8581680" cy="386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(5502 и 5505)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- ЗАПОЛНЯТЬ!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Форма 30, таблица 5503</a:t>
            </a:r>
            <a:br>
              <a:rPr sz="36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«посмертные патологоанатомические исследования (вскрытия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58560" y="191592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олняется строго на основе проведе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атологоанатомических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вскрытий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разбивкой по категориям сложности: на мониторинге МЗ ЗК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каз № 601 от 06.12.2017 г. «О совершенствовании организации посмертного патологоанатомического исследования (вскрытия) в медицинских организациях Забайкальского края» - утверждён перечень категорий сложности патологоанатомических вскры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79280" y="260280"/>
          <a:ext cx="8721720" cy="6621480"/>
        </p:xfrm>
        <a:graphic>
          <a:graphicData uri="http://schemas.openxmlformats.org/drawingml/2006/table">
            <a:tbl>
              <a:tblPr/>
              <a:tblGrid>
                <a:gridCol w="4184640"/>
                <a:gridCol w="514440"/>
                <a:gridCol w="515880"/>
                <a:gridCol w="488880"/>
                <a:gridCol w="489240"/>
                <a:gridCol w="487080"/>
                <a:gridCol w="490680"/>
                <a:gridCol w="485640"/>
                <a:gridCol w="106524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ы на сроке менее 22 недель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0" name="Oval 178"/>
          <p:cNvSpPr/>
          <p:nvPr/>
        </p:nvSpPr>
        <p:spPr>
          <a:xfrm>
            <a:off x="4427640" y="2060640"/>
            <a:ext cx="360360" cy="288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9"/>
          <p:cNvSpPr/>
          <p:nvPr/>
        </p:nvSpPr>
        <p:spPr>
          <a:xfrm>
            <a:off x="4427640" y="2421000"/>
            <a:ext cx="36036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0"/>
          <p:cNvSpPr/>
          <p:nvPr/>
        </p:nvSpPr>
        <p:spPr>
          <a:xfrm flipV="1">
            <a:off x="4427640" y="6524640"/>
            <a:ext cx="369720" cy="333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1"/>
          <p:cNvSpPr/>
          <p:nvPr/>
        </p:nvSpPr>
        <p:spPr>
          <a:xfrm>
            <a:off x="4427640" y="5877000"/>
            <a:ext cx="36036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БЛАГОВРЕМЕННО сверить данные по вскрытиям с         ПАТОЛОГОАНАТОМАМИ !!!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484280"/>
          <a:ext cx="8229600" cy="51814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00200"/>
          <a:ext cx="8229600" cy="51022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Таблица 2402 – умершие на до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836640"/>
          <a:ext cx="8785440" cy="5789520"/>
        </p:xfrm>
        <a:graphic>
          <a:graphicData uri="http://schemas.openxmlformats.org/drawingml/2006/table">
            <a:tbl>
              <a:tblPr/>
              <a:tblGrid>
                <a:gridCol w="1297080"/>
                <a:gridCol w="828720"/>
                <a:gridCol w="1063440"/>
                <a:gridCol w="1062360"/>
                <a:gridCol w="1063440"/>
                <a:gridCol w="1062000"/>
                <a:gridCol w="1111320"/>
                <a:gridCol w="1297080"/>
              </a:tblGrid>
              <a:tr h="67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ологоанато-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з графы 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о-медицин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шие на дому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де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спос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числа умерших на дому: пациенты трудоспособного возраста* умерли от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х цереброваскуля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х заболевание (160-164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строго инфаркта миокарда (1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3-02; 8-914-490-90-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ий сектор (г. Чита) – Золотухина Анастасия Олег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2-98; 8-914-464-71-54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окаменское ПаО – Шлапаков Вадим Викторович и Плакущая Надежда Владими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02-34-94; 8-914-145-23-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79280" y="620640"/>
          <a:ext cx="8785440" cy="592452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836640"/>
          <a:ext cx="8713800" cy="583704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Форма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«Прижизненные патологоанатомические исследования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прижизненных патологоанатомических и цитологических диагностических исследований по категориям сложности»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357120" y="1195560"/>
          <a:ext cx="8358120" cy="560700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440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9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0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214200" y="714240"/>
          <a:ext cx="8715600" cy="608832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7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Line 91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2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3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8-12-20T08:33:40Z</dcterms:modified>
  <cp:revision>68</cp:revision>
  <dc:subject/>
  <dc:title>Слайд 1</dc:title>
</cp:coreProperties>
</file>