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DDD5-AC3A-45BE-BD5C-10FC25F206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925F-31D4-4CB4-84DA-D97A1D12AC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E483-629A-42A9-8B39-F81FE902AC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B15D-68EE-43F8-A7D4-7CEB162645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EC78-5CA0-4E13-879E-9E7D21C9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CEB4-0DAA-42C5-8870-A041E10E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E5E1-E685-45BB-BF5C-787307F0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9E6B-9BED-4C66-AA12-3389B0C7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883A-759B-4BC5-BAC2-DACA14D3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DE45-05E6-4181-8150-D0E60389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93D5-CF54-43CE-8B45-B5A0BF09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522C-5AE7-4B1C-8774-11BB0D8C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7F32-B930-44FE-8D80-86269797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62B8-8427-42F1-8902-05D072A6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8D83-C9C9-4CC5-B565-56428A1E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023F-2BB2-46A7-A5F4-708C8997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42E9-980C-479E-A8CF-AA2777EE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8ABE-AC95-4642-9B0D-3C289E2F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8C64-DA14-4A5A-855A-0DD950AA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2FEB-9BF8-4CAE-AFA1-2C424D61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07EB-4D6C-4F71-8114-E160AE10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DCEF-CB09-42BB-B8DC-4BBACA92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6D94-7663-41E9-8240-2191CEF3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6ECC-51B9-4C8F-8076-AC59882F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85C1-7D5F-47B9-BC25-C0236B15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1616-9863-4B1A-BCA7-AAC7E535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DC25-70A3-4C5E-97B6-84F6ECE5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D489-377B-4E28-B5B6-A6E5FA90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7"/>
          <p:cNvSpPr/>
          <p:nvPr/>
        </p:nvSpPr>
        <p:spPr>
          <a:xfrm rot="16200000">
            <a:off x="-2473200" y="2672640"/>
            <a:ext cx="6629400" cy="1587600"/>
          </a:xfrm>
          <a:custGeom>
            <a:avLst/>
            <a:gdLst/>
            <a:ahLst/>
            <a:rect l="l" t="t" r="r" b="b"/>
            <a:pathLst>
              <a:path w="5693" h="1000">
                <a:moveTo>
                  <a:pt x="0" y="584"/>
                </a:moveTo>
                <a:cubicBezTo>
                  <a:pt x="249" y="545"/>
                  <a:pt x="844" y="377"/>
                  <a:pt x="1504" y="352"/>
                </a:cubicBezTo>
                <a:cubicBezTo>
                  <a:pt x="2168" y="300"/>
                  <a:pt x="3246" y="322"/>
                  <a:pt x="3960" y="432"/>
                </a:cubicBezTo>
                <a:cubicBezTo>
                  <a:pt x="4641" y="548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2ccfa"/>
              </a:gs>
              <a:gs pos="100000">
                <a:srgbClr val="e5f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8"/>
          <p:cNvSpPr/>
          <p:nvPr/>
        </p:nvSpPr>
        <p:spPr>
          <a:xfrm>
            <a:off x="63360" y="63360"/>
            <a:ext cx="9037800" cy="1605240"/>
          </a:xfrm>
          <a:custGeom>
            <a:avLst/>
            <a:gdLst/>
            <a:ahLst/>
            <a:rect l="l" t="t" r="r" b="b"/>
            <a:pathLst>
              <a:path w="5693" h="1000">
                <a:moveTo>
                  <a:pt x="0" y="584"/>
                </a:moveTo>
                <a:cubicBezTo>
                  <a:pt x="253" y="552"/>
                  <a:pt x="820" y="405"/>
                  <a:pt x="1520" y="392"/>
                </a:cubicBezTo>
                <a:cubicBezTo>
                  <a:pt x="2184" y="340"/>
                  <a:pt x="3486" y="394"/>
                  <a:pt x="4200" y="504"/>
                </a:cubicBezTo>
                <a:cubicBezTo>
                  <a:pt x="4881" y="620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e7f2fe"/>
              </a:gs>
              <a:gs pos="100000">
                <a:srgbClr val="a2cc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9"/>
          <p:cNvSpPr/>
          <p:nvPr/>
        </p:nvSpPr>
        <p:spPr>
          <a:xfrm>
            <a:off x="324000" y="6500880"/>
            <a:ext cx="856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3240"/>
            <a:ext cx="9144000" cy="6854760"/>
            <a:chOff x="0" y="3240"/>
            <a:chExt cx="9144000" cy="6854760"/>
          </a:xfrm>
        </p:grpSpPr>
        <p:grpSp>
          <p:nvGrpSpPr>
            <p:cNvPr id="4" name="Group 31"/>
            <p:cNvGrpSpPr/>
            <p:nvPr/>
          </p:nvGrpSpPr>
          <p:grpSpPr>
            <a:xfrm>
              <a:off x="0" y="3240"/>
              <a:ext cx="9144000" cy="6854760"/>
              <a:chOff x="0" y="3240"/>
              <a:chExt cx="9144000" cy="6854760"/>
            </a:xfrm>
          </p:grpSpPr>
          <p:sp>
            <p:nvSpPr>
              <p:cNvPr id="5" name="Freeform 32"/>
              <p:cNvSpPr/>
              <p:nvPr/>
            </p:nvSpPr>
            <p:spPr>
              <a:xfrm>
                <a:off x="0" y="6386400"/>
                <a:ext cx="436680" cy="471600"/>
              </a:xfrm>
              <a:custGeom>
                <a:avLst/>
                <a:gdLst/>
                <a:ahLst/>
                <a:rect l="l" t="t" r="r" b="b"/>
                <a:pathLst>
                  <a:path w="275" h="297">
                    <a:moveTo>
                      <a:pt x="275" y="291"/>
                    </a:moveTo>
                    <a:lnTo>
                      <a:pt x="112" y="211"/>
                    </a:lnTo>
                    <a:lnTo>
                      <a:pt x="28" y="127"/>
                    </a:lnTo>
                    <a:lnTo>
                      <a:pt x="0" y="0"/>
                    </a:lnTo>
                    <a:lnTo>
                      <a:pt x="1" y="29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33"/>
              <p:cNvSpPr/>
              <p:nvPr/>
            </p:nvSpPr>
            <p:spPr>
              <a:xfrm>
                <a:off x="31680" y="41400"/>
                <a:ext cx="9072720" cy="6770520"/>
              </a:xfrm>
              <a:prstGeom prst="roundRect">
                <a:avLst>
                  <a:gd name="adj" fmla="val 6227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34"/>
              <p:cNvSpPr/>
              <p:nvPr/>
            </p:nvSpPr>
            <p:spPr>
              <a:xfrm>
                <a:off x="0" y="3240"/>
                <a:ext cx="460440" cy="500040"/>
              </a:xfrm>
              <a:custGeom>
                <a:avLst/>
                <a:gdLst/>
                <a:ahLst/>
                <a:rect l="l" t="t" r="r" b="b"/>
                <a:pathLst>
                  <a:path w="290" h="315">
                    <a:moveTo>
                      <a:pt x="1" y="315"/>
                    </a:moveTo>
                    <a:cubicBezTo>
                      <a:pt x="21" y="279"/>
                      <a:pt x="76" y="150"/>
                      <a:pt x="122" y="97"/>
                    </a:cubicBezTo>
                    <a:cubicBezTo>
                      <a:pt x="163" y="44"/>
                      <a:pt x="290" y="23"/>
                      <a:pt x="279" y="0"/>
                    </a:cubicBez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35"/>
              <p:cNvSpPr/>
              <p:nvPr/>
            </p:nvSpPr>
            <p:spPr>
              <a:xfrm>
                <a:off x="8742240" y="6399360"/>
                <a:ext cx="401760" cy="455400"/>
              </a:xfrm>
              <a:custGeom>
                <a:avLst/>
                <a:gdLst/>
                <a:ahLst/>
                <a:rect l="l" t="t" r="r" b="b"/>
                <a:pathLst>
                  <a:path w="253" h="287">
                    <a:moveTo>
                      <a:pt x="250" y="0"/>
                    </a:moveTo>
                    <a:lnTo>
                      <a:pt x="179" y="143"/>
                    </a:lnTo>
                    <a:lnTo>
                      <a:pt x="85" y="236"/>
                    </a:lnTo>
                    <a:lnTo>
                      <a:pt x="0" y="287"/>
                    </a:lnTo>
                    <a:lnTo>
                      <a:pt x="253" y="28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Freeform 36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/>
              <a:ahLst/>
              <a:rect l="l" t="t" r="r" b="b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270000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0BA8-CF90-451B-9209-DF76FD0033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38" descr="doct___19"/>
          <p:cNvPicPr/>
          <p:nvPr/>
        </p:nvPicPr>
        <p:blipFill>
          <a:blip r:embed="rId2"/>
          <a:stretch/>
        </p:blipFill>
        <p:spPr>
          <a:xfrm>
            <a:off x="324000" y="476280"/>
            <a:ext cx="755640" cy="4906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39" descr="diagr_08"/>
          <p:cNvPicPr/>
          <p:nvPr/>
        </p:nvPicPr>
        <p:blipFill>
          <a:blip r:embed="rId3"/>
          <a:stretch/>
        </p:blipFill>
        <p:spPr>
          <a:xfrm>
            <a:off x="0" y="0"/>
            <a:ext cx="601560" cy="73836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37" descr="diagr_11"/>
          <p:cNvPicPr/>
          <p:nvPr/>
        </p:nvPicPr>
        <p:blipFill>
          <a:blip r:embed="rId4"/>
          <a:stretch/>
        </p:blipFill>
        <p:spPr>
          <a:xfrm>
            <a:off x="108000" y="549360"/>
            <a:ext cx="431640" cy="30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F9B3-FFE9-40E1-8192-09D693D3AB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13336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Дополнительные разъяснения к инструкции по заполнению отчетной формы №61 за 2017 год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«Сведения о болезни, вызванной вирусом иммунодефицита человек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00000" y="4797000"/>
            <a:ext cx="70581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лошина Людмила Иннокент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рач статист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УЗ ККИБ обособленное подразде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«Центр профилактики и борьбы со СПИД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 Забайкальском кра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0926-E259-400B-B856-8D1A5E0511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Rectangle 3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5904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867280" y="3284640"/>
            <a:ext cx="2590920" cy="1739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казываютс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лько те пациенты с ВИЧ-инфекцией, которые были пролечены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 отчетном году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орма №61 </a:t>
            </a:r>
            <a:br>
              <a:rPr sz="24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Сведения о болезни, вызванной вирусом иммунодефицита человека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тв. Пр. Росстата №672 от 30.12.201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межгодовой контроль 201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/201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3860280"/>
            <a:ext cx="8229600" cy="25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1, 2000, 1, 04 отч. год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61, 1000, 12, 19 пред. года + 61, 2000, 1, 05+07+09 отч. года – 61, 2000, 1, 10 отч.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1, 2000, 8, 04 отч. год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61, 1000, 13, 19 пред. года + 61, 2000, 8, 05+07+09 отч. года – 2000, 8, 10 отч.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0BEB-2F14-4C62-AB4C-07757E09DE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itaids@mail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ий телефон: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1-03-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2F9C-B9DC-440A-AC1A-9DBEA220BB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Инструкция по составлению государственного статистического отчета №61«Сведения о болезни, вызванной вирусом иммунодефицита человека» Москва,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«Методические рекомендации по порядку статистического учета и кодирования болезни, вызванной вирусом иммунодефицита человека (ВИЧ) в статистике заболеваемости и смертности» утвержденные МЗ РФ 28.06.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Информационная система AIDS 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44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3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ает в себя только тех лиц, которые были обследованы на антитела к ВИЧ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текущем год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дицинских организациях, относящихся к Минздраву России (центры СПИ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рока 1, графа 2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исло лиц, у которых при исследовании крови на антитела к ВИЧ в отчетном году, получены положительные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словия контроля: строка 1, графа 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gt;=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гр.3 (В20-24)+гр.4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 этом допускается, что сумма гр. 2+3 может быть меньше гр.2 только на число пациентов, выявленных в течение 1-го месяца (декабрь текущего го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EF2D-A987-4BB7-A371-1C0B84B3C1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981000"/>
            <a:ext cx="8300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и 1+2, гр. 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уются из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. 3100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2, гр.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ыявлено в отчетном году пациентов с ВИЧ-инфекцией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ды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»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строки 1+2, графы 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ительно вносятся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других ведомст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5+46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м числе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учр. ФС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 47+4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о 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 таб.1000, стр.1+2, гр.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сведений переносится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1-4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льские жит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3-4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ца БОМ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р.49-5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смертные случа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51-5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остранные гражда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2627280" y="651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CE8F-A1F1-4F72-A6A0-17082242E1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1000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р.57- 60, гр.5-1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уются и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.57-5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нтактные лиц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20.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включают в себя сведения о пациентах, зарегистрированных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центрах СП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. 59-6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таб.3100, стр.1, гр.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полнительно 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F313-2846-4144-90BC-5A776480B4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Ф.61 таблица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Rectangle 3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197920" cy="5832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140360" y="3573360"/>
            <a:ext cx="4572000" cy="2284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тр. 1-8, гр.5-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впервые выявленные пациенты) формируются из таб. 3100, стр.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тр. 10, гр. 5-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впервые выявленные пациенты) формируются из таб. 31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р.1, гр.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тр. 9, гр. 5-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впервые выявленные пациенты) формируются из таб. 1000, стр. 57-58, гр.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линические стад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пациентов с ВИЧ-инфекцией показываются в строках 1-8 и только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графах 16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. 2000, гр. 4 и 10 формируются следующим образ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б. 2000, гр. 4, стр. 1-8 = таб. 2000, гр. 10+гр.15, стр. 1-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б. 2000, гр. 10 стр. 1-8 = таб. 2000, гр. 11+гр.13+гр.14 стр. 1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9C5B-B54C-4948-B596-101994D98C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7911-9238-4CB6-83BE-2E19AFBFA8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Rectangle 3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496000" cy="5977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796000" y="3573360"/>
            <a:ext cx="2665440" cy="2014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таблице 3000 показываются только те пациенты с ВИЧ-инфекцией, которые бы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бследованы в отчетном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5227-37B2-497B-89BD-614C6CD5A7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Rectangle 3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229600" cy="576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508720" y="3141720"/>
            <a:ext cx="3168720" cy="283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 строке 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оказывается число пациентов с ВИЧ-инфекцией с проявлени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Б (коды В20.0, В 20.7, В 22.7), умерших в отчетном году от всех причин, т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пользуются коды В20-В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1:03:22Z</dcterms:created>
  <dc:creator>e.tsybikova</dc:creator>
  <dc:description/>
  <dc:language>en-US</dc:language>
  <cp:lastModifiedBy>Центр</cp:lastModifiedBy>
  <dcterms:modified xsi:type="dcterms:W3CDTF">2017-12-08T06:39:06Z</dcterms:modified>
  <cp:revision>186</cp:revision>
  <dc:subject/>
  <dc:title>МОДЕРНИЗАЦИЯ СИСТЕМЫ ОКАЗАНИЯ ПРОТИВОТУБЕРКУЛЕЗНОЙ ПОМОЩИ БОЛЬНЫМ ТУБЕРКУЛЕЗОМ ЛЕГКИХ В НОВЫХ ЭПИДЕМИОЛОГИЧЕСКИХ УСЛОВИЯХ</dc:title>
</cp:coreProperties>
</file>