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CDE7-A7F7-4184-B958-DD027EBA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85A6-F106-43BE-A9D8-DEA4BB0D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EFCF-CE20-455B-AFF6-C6732DD9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02D1C-3AC9-431F-BCA7-AD3193D4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4ADD-05D1-4E07-9B06-EA164329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E85B-E81C-47BB-8657-8CFF8C0D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92F2-3189-4AD0-9F25-C504A71D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1546-4785-4045-8E53-44A3FD79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079D-12C7-46C7-AE16-286596A0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6B53-7076-4648-A916-2E7B32CF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7F6B-4D11-482D-B783-9D3FC2C5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F21F2-E6A6-4486-8E16-5BA4C776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D239-2341-4CEC-B5B0-5E1AFA83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D5F6-A32F-4548-A588-51DF6751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F9E6-A3D2-46BE-89D1-D920D0E7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4565-B578-4408-9932-DA5241FF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5C3F-1AC3-4DB6-94F2-12C1F787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5AA7-8A95-4CC3-B250-C35C8111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9C17-6D77-4B65-A17F-EC63C6D0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6856A-33B2-4544-A9A0-6E805633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800F-5515-4AD2-B7BF-705B9A0A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AF35-C761-43C1-AE1A-69DE8049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B58F-CB9B-4E0F-971F-BCB58E96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448DB-FB4B-42F2-BA32-5EF6C6BA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2E2C-E010-40F8-BEB8-2AE340E4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8A4B5-1B6B-4B33-ADEB-044C99DB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DA75-DFBC-4774-A033-418A5CAF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4B56F-1655-473C-9BE7-6141101D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0F775-1D11-49E4-8397-B0B717B2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F563-A74B-4980-A10B-C2E75A54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B100-886F-4116-B323-3C52C3AA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983D-7971-41B8-8133-B259C835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438E-F697-4E81-9899-6E00DEBD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47E8-3B2E-4747-A40A-28975AE3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BE75-806B-41EA-A1FF-962068D6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F74F-335F-4949-A90A-FF67849B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A203-89E5-44BB-9112-A9BC2A2A0F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5B39-2594-42AD-91FA-127DB42DFC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3770-EFBF-4927-A71C-2BA315F82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(5502)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- ЗАПОЛНЯТЬ!!!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смертная патологоанатомическая диагнос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патологоанатомические вскрытия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АБЛИЦА (5503)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яется исключительно по результатам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патологоанатомически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крытий умерших в стационаре и амбулаторно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СОМАТИЧЕСКОЙ ПАТ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заболеваний).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79280" y="115920"/>
          <a:ext cx="8785440" cy="5802120"/>
        </p:xfrm>
        <a:graphic>
          <a:graphicData uri="http://schemas.openxmlformats.org/drawingml/2006/table">
            <a:tbl>
              <a:tblPr/>
              <a:tblGrid>
                <a:gridCol w="4214880"/>
                <a:gridCol w="517680"/>
                <a:gridCol w="520560"/>
                <a:gridCol w="492120"/>
                <a:gridCol w="492120"/>
                <a:gridCol w="490680"/>
                <a:gridCol w="493560"/>
                <a:gridCol w="490680"/>
                <a:gridCol w="107316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2"/>
          <p:cNvSpPr/>
          <p:nvPr/>
        </p:nvSpPr>
        <p:spPr>
          <a:xfrm>
            <a:off x="0" y="599688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(5505)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служиваемых медицинских организаций всего 2 _____________ , из них: медицинских организаций,  оказывающих медицинскую помощь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____ 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ъектов гистологического исследования по секционному материалу  4 __________ .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1916280"/>
            <a:ext cx="28728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220500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256536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5300640"/>
            <a:ext cx="287280" cy="2890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БЛАГОПРЕМЕННО сверить данные по вскрытиям с         ПАТОЛОГОАНАТОМАМИ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484280"/>
          <a:ext cx="8229600" cy="517536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510372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ерв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(макроскопическое исследование) без проведения гистологического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втор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лода, мертворожденного или новорожденного, а также патолого-анатомическое вскрытие при установленном клиническом диагнозе, включая осложнения основного заболевания, при отсутствии трудностей в трактовке механизмов и причины смерти (в том числе при ишемической болезни сердца, ревматических поражениях клапанов сердца вне обострения, инфаркте головного мозга, новообразованиях, подтвержденных гистологически, циррозе печени, язве желудка и двенадцатиперстной кишки, аппендиците, холецистите, желчнокаменной болезни, аневризме аор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третье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установленном клиническом диагнозе, включая осложнения основного заболевания, а также в случаях смерти после оперативных вмешательств (за исключением случаев, предусмотренных подпунктами 4 и 5 настоящего пункта), когда возникают трудности в трактовке сущности патологического процесса, механизмов и причины смерти, что требует применения дополнительных гистологических и гистохимических окрасок, бактериоскопического, бактериологического, биохимического и других исследований (в том числе при кардиомиопатиях, перикардитах, миокардитах, эндокардитах, цереброваскулярных заболеваниях, сосудистой недостаточности кишечника, кишечной непроходимости, вирусных гепатитах, пиелонефритах, мочекаменной болезни, обструктивных болезнях легкого, сосудистой недостаточности конечностей, психических и нервных болезнях, алкоголизме, панкреатитах, амилоидоз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четверто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комбинированном основном заболевании или полипатии, при наличии дефектов диагностики и лечения, что вызвало трудности в трактовке характера патологического процесса, механизмов и причины смерти (в том числе при интраоперационной или ранней послеоперационной смерти, инфекционных заболеваниях (кроме ВИЧ-инфекции, особо опасных инфекций), заболеваниях беременных, рожениц и родильниц, при гнойно-воспалительных осложнениях, не диагностированных при жизни, сепсисе, болезнях крови и кроветворных органов, ревматических болезнях, заболеваниях спинного мозга, болезнях кожи и костно-мышечной системы, профессиональных заболеваниях, в том числе пневмокониозах, интерстициальных болезнях легких, болезнях эндокринной системы, болезнях накопл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ятой категории сло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неустановленном клиническом диагнозе основного заболевания, когда имеются трудности в трактовке характера патологического процесса и причины смерти или необходимо применение дополнительных иммуногистохимических, молекулярно-биологических, электронно-микроскопических методов исследования (в том числе при новообразованиях неустановленного гистогенеза, особо опасных инфекционных болезнях, ВИЧ-инфе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-43-02; 8-914-490-90-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Краснокаменским ПаО – Плакущая Надежда Владими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145-23-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620640"/>
          <a:ext cx="8785440" cy="605160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836640"/>
          <a:ext cx="8713800" cy="584208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357120" y="1195560"/>
          <a:ext cx="8358120" cy="560052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296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Arial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14200" y="714240"/>
          <a:ext cx="8715600" cy="608508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212760" y="1285920"/>
            <a:ext cx="8718480" cy="38829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5-12-14T20:08:13Z</dcterms:modified>
  <cp:revision>50</cp:revision>
  <dc:subject/>
  <dc:title>Слайд 1</dc:title>
</cp:coreProperties>
</file>